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8.png" ContentType="image/png"/>
  <Override PartName="/ppt/media/image16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B3B6-E1B5-4BF0-97DA-70C9C17617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固网课程专用的封面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比较大的章，内容比较多，最好能在一章讲解完后对本章的课程内容、要达到的能力和注意事项等进行概要总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页在胶片＋注释中同样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4A5-98A4-4D16-9B81-79216088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009-D68F-4BEA-828B-3366A10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5C3-5304-41B9-803E-1B1A4D0E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EAD-E34C-49DF-AE9B-68D066FB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4E13-42E5-4D91-BABC-D00AF867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5802-10A2-4AC9-9315-FF632D85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4787-097D-4B68-9AAF-49BD1593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FB3E-4D08-473E-8B90-3FBBA530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88E0-B869-40E6-8BC5-FD9FFFD3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EB03-4D78-47FE-919E-94932285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9D3-F1D6-4A93-8134-A453CC5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066-1CAA-46E1-9719-599D810C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AE0B-EB2F-483A-BE31-3F327ABF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63D1-0AE0-4EFF-8D51-A6C3C97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18A6-D92C-4A9D-AC84-42150628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21CC-52FE-48EA-96E9-38C9A145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D88D-BD84-49B5-87A8-5D5DD7C1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B7D-5EA5-45A8-9D17-0EFF4521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F9F-05A8-4891-B4AF-85D96DD3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2BF-A046-452B-9F6F-76BFA6FE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0EC-FDF2-42B8-AD88-10ED51C9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CCD-DB1A-493F-A84E-28549E6B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F2E-1735-4FC7-A7F4-09C1FBCA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4FF-4122-47AC-BFA4-AC09E835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3019-A8E6-4C93-990F-FAF886A791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482-3215-4E98-8B43-2A550E16E0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8.png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8640" y="1523880"/>
            <a:ext cx="5334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DN02 TCP/IP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协议和子网规划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76360" y="457200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认证实验室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端口号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传输层协议用端口号来标识和区分各种上层应用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4360" y="2349360"/>
            <a:ext cx="8127720" cy="3658320"/>
            <a:chOff x="684360" y="2349360"/>
            <a:chExt cx="8127720" cy="3658320"/>
          </a:xfrm>
        </p:grpSpPr>
        <p:sp>
          <p:nvSpPr>
            <p:cNvPr id="386" name=""/>
            <p:cNvSpPr/>
            <p:nvPr/>
          </p:nvSpPr>
          <p:spPr>
            <a:xfrm>
              <a:off x="1903320" y="4488480"/>
              <a:ext cx="2438640" cy="62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03720" y="4488480"/>
              <a:ext cx="2438640" cy="62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36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5636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164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4692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5104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7036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37040" y="2349360"/>
              <a:ext cx="914400" cy="6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6880" y="239544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57960" y="239544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51280" y="23954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Tel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08960" y="23954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21520" y="2395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66400" y="239544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T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02280" y="246564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SN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16760" y="4543560"/>
              <a:ext cx="91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TC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77280" y="4529160"/>
              <a:ext cx="102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UD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70160" y="2970360"/>
              <a:ext cx="1600200" cy="14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4560" y="2970360"/>
              <a:ext cx="761760" cy="138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198600" y="3039480"/>
              <a:ext cx="2286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274560" y="3039480"/>
              <a:ext cx="11430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503160" y="3039480"/>
              <a:ext cx="20574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3560" y="3039480"/>
              <a:ext cx="457200" cy="13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475320" y="3039480"/>
              <a:ext cx="45720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03920" y="3039480"/>
              <a:ext cx="1447920" cy="13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98760" y="5385600"/>
              <a:ext cx="6705360" cy="621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27520" y="5426280"/>
              <a:ext cx="22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IP </a:t>
              </a:r>
              <a:r>
                <a:rPr b="0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数 据 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70360" y="5109480"/>
              <a:ext cx="1371600" cy="20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79680" y="5109480"/>
              <a:ext cx="1143000" cy="20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5800" y="3871440"/>
              <a:ext cx="546120" cy="17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黑体"/>
                  <a:ea typeface="黑体"/>
                </a:rPr>
                <a:t>套  接   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79440" y="326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76120" y="3186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92560" y="318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0120" y="318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41960" y="303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65840" y="318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56560" y="3186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连接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042920" y="1125360"/>
            <a:ext cx="7238880" cy="4724280"/>
            <a:chOff x="1042920" y="1125360"/>
            <a:chExt cx="7238880" cy="4724280"/>
          </a:xfrm>
        </p:grpSpPr>
        <p:sp>
          <p:nvSpPr>
            <p:cNvPr id="426" name=""/>
            <p:cNvSpPr/>
            <p:nvPr/>
          </p:nvSpPr>
          <p:spPr>
            <a:xfrm rot="720000">
              <a:off x="5157360" y="5468760"/>
              <a:ext cx="1538280" cy="2700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60000">
              <a:off x="2793600" y="4090320"/>
              <a:ext cx="1903320" cy="61560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20000">
              <a:off x="5140080" y="3300120"/>
              <a:ext cx="1538280" cy="2700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9" name=""/>
            <p:cNvGraphicFramePr/>
            <p:nvPr/>
          </p:nvGraphicFramePr>
          <p:xfrm>
            <a:off x="3862440" y="1125360"/>
            <a:ext cx="1981080" cy="132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62440" y="1125360"/>
                      <a:ext cx="1981080" cy="13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31" name="" descr=""/>
            <p:cNvPicPr/>
            <p:nvPr/>
          </p:nvPicPr>
          <p:blipFill>
            <a:blip r:embed="rId3"/>
            <a:stretch/>
          </p:blipFill>
          <p:spPr>
            <a:xfrm>
              <a:off x="2185920" y="1506240"/>
              <a:ext cx="91440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643120" y="2420640"/>
              <a:ext cx="0" cy="3429000"/>
            </a:xfrm>
            <a:prstGeom prst="line">
              <a:avLst/>
            </a:prstGeom>
            <a:ln w="3816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6605640" y="1582560"/>
              <a:ext cx="4712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4322160" y="158148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48040" y="1887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38600" y="18871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57920" y="2344320"/>
              <a:ext cx="0" cy="3505320"/>
            </a:xfrm>
            <a:prstGeom prst="line">
              <a:avLst/>
            </a:prstGeom>
            <a:ln w="3816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20000">
              <a:off x="3480840" y="2773440"/>
              <a:ext cx="1676520" cy="368280"/>
            </a:xfrm>
            <a:prstGeom prst="rect">
              <a:avLst/>
            </a:prstGeom>
            <a:solidFill>
              <a:srgbClr val="ffff00"/>
            </a:solidFill>
            <a:ln cap="rnd" w="9360">
              <a:solidFill>
                <a:srgbClr val="00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SYN(seq=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880000">
              <a:off x="4066920" y="3866040"/>
              <a:ext cx="2301840" cy="368280"/>
            </a:xfrm>
            <a:prstGeom prst="rect">
              <a:avLst/>
            </a:prstGeom>
            <a:solidFill>
              <a:srgbClr val="00cc99"/>
            </a:solidFill>
            <a:ln cap="rnd" w="9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SYN(seq=b,ack=a+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20000">
              <a:off x="3399840" y="4805280"/>
              <a:ext cx="2389320" cy="642600"/>
            </a:xfrm>
            <a:prstGeom prst="rect">
              <a:avLst/>
            </a:prstGeom>
            <a:solidFill>
              <a:srgbClr val="ffff00"/>
            </a:solidFill>
            <a:ln cap="rnd" w="9360">
              <a:solidFill>
                <a:srgbClr val="00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SYN(seq=a+1,ack=b+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42920" y="5697360"/>
              <a:ext cx="91440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20000">
              <a:off x="2789280" y="2655720"/>
              <a:ext cx="696960" cy="3636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20880000">
              <a:off x="6453000" y="3714840"/>
              <a:ext cx="228600" cy="7632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20000">
              <a:off x="2798280" y="4790520"/>
              <a:ext cx="612720" cy="44280"/>
            </a:xfrm>
            <a:prstGeom prst="lin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42920" y="2192760"/>
              <a:ext cx="1049400" cy="397080"/>
            </a:xfrm>
            <a:prstGeom prst="wedgeRoundRectCallout">
              <a:avLst>
                <a:gd name="adj1" fmla="val 71467"/>
                <a:gd name="adj2" fmla="val -112134"/>
                <a:gd name="adj3" fmla="val 16667"/>
              </a:avLst>
            </a:prstGeom>
            <a:solidFill>
              <a:srgbClr val="33cccc"/>
            </a:solidFill>
            <a:ln cap="rnd" w="936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1440" y="2268720"/>
              <a:ext cx="990360" cy="397080"/>
            </a:xfrm>
            <a:prstGeom prst="wedgeRoundRectCallout">
              <a:avLst>
                <a:gd name="adj1" fmla="val -68092"/>
                <a:gd name="adj2" fmla="val -126175"/>
                <a:gd name="adj3" fmla="val 16667"/>
              </a:avLst>
            </a:prstGeom>
            <a:solidFill>
              <a:srgbClr val="33cccc"/>
            </a:solidFill>
            <a:ln cap="rnd" w="936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滑动窗口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6877080" y="1197000"/>
            <a:ext cx="685800" cy="665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471240" cy="7318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250920" y="2421000"/>
            <a:ext cx="2087640" cy="397080"/>
          </a:xfrm>
          <a:prstGeom prst="wedgeRoundRectCallout">
            <a:avLst>
              <a:gd name="adj1" fmla="val 12032"/>
              <a:gd name="adj2" fmla="val -184597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ff"/>
                </a:solidFill>
                <a:latin typeface="Times New Roman"/>
              </a:rPr>
              <a:t>需要修改窗口大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77080" y="2421000"/>
            <a:ext cx="1676520" cy="397080"/>
          </a:xfrm>
          <a:prstGeom prst="wedgeRoundRectCallout">
            <a:avLst>
              <a:gd name="adj1" fmla="val -33620"/>
              <a:gd name="adj2" fmla="val -184597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ff"/>
                </a:solidFill>
                <a:latin typeface="Times New Roman"/>
              </a:rPr>
              <a:t>发送数据太快了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771640" y="1341360"/>
            <a:ext cx="3816360" cy="4940280"/>
            <a:chOff x="2771640" y="1341360"/>
            <a:chExt cx="3816360" cy="4940280"/>
          </a:xfrm>
        </p:grpSpPr>
        <p:sp>
          <p:nvSpPr>
            <p:cNvPr id="453" name=""/>
            <p:cNvSpPr/>
            <p:nvPr/>
          </p:nvSpPr>
          <p:spPr>
            <a:xfrm>
              <a:off x="2843280" y="5733720"/>
              <a:ext cx="3671640" cy="5032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43280" y="5302080"/>
              <a:ext cx="374472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842920" y="4652640"/>
              <a:ext cx="3671640" cy="57636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43280" y="4005000"/>
              <a:ext cx="367164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3280" y="3717720"/>
              <a:ext cx="3671640" cy="5032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771640" y="3141360"/>
              <a:ext cx="3743280" cy="50328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71640" y="2493720"/>
              <a:ext cx="374328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71640" y="2133360"/>
              <a:ext cx="374328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71640" y="1773000"/>
              <a:ext cx="3743280" cy="57636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71640" y="1412640"/>
              <a:ext cx="3743280" cy="64944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71640" y="1341360"/>
              <a:ext cx="71640" cy="4824360"/>
            </a:xfrm>
            <a:prstGeom prst="line">
              <a:avLst/>
            </a:prstGeom>
            <a:ln w="2844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14920" y="1341360"/>
              <a:ext cx="0" cy="4940280"/>
            </a:xfrm>
            <a:prstGeom prst="line">
              <a:avLst/>
            </a:prstGeom>
            <a:ln w="2844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412080" y="1422720"/>
              <a:ext cx="2033280" cy="522360"/>
              <a:chOff x="3412080" y="1422720"/>
              <a:chExt cx="2033280" cy="522360"/>
            </a:xfrm>
          </p:grpSpPr>
          <p:sp>
            <p:nvSpPr>
              <p:cNvPr id="466" name=""/>
              <p:cNvSpPr/>
              <p:nvPr/>
            </p:nvSpPr>
            <p:spPr>
              <a:xfrm rot="480000">
                <a:off x="3423960" y="1491480"/>
                <a:ext cx="100872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480000">
                <a:off x="4425120" y="1632240"/>
                <a:ext cx="100800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39360" y="1784520"/>
              <a:ext cx="2033280" cy="520920"/>
              <a:chOff x="3339360" y="1784520"/>
              <a:chExt cx="2033280" cy="520920"/>
            </a:xfrm>
          </p:grpSpPr>
          <p:sp>
            <p:nvSpPr>
              <p:cNvPr id="469" name=""/>
              <p:cNvSpPr/>
              <p:nvPr/>
            </p:nvSpPr>
            <p:spPr>
              <a:xfrm rot="480000">
                <a:off x="3351240" y="1853280"/>
                <a:ext cx="100836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480000">
                <a:off x="4352400" y="1992600"/>
                <a:ext cx="100800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268080" y="2142720"/>
              <a:ext cx="2035800" cy="524880"/>
              <a:chOff x="3268080" y="2142720"/>
              <a:chExt cx="2035800" cy="524880"/>
            </a:xfrm>
          </p:grpSpPr>
          <p:sp>
            <p:nvSpPr>
              <p:cNvPr id="472" name=""/>
              <p:cNvSpPr/>
              <p:nvPr/>
            </p:nvSpPr>
            <p:spPr>
              <a:xfrm rot="480000">
                <a:off x="3279960" y="2211840"/>
                <a:ext cx="101124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480000">
                <a:off x="4275720" y="2354400"/>
                <a:ext cx="101592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839400" y="3075480"/>
              <a:ext cx="2088720" cy="530280"/>
              <a:chOff x="3839400" y="3075480"/>
              <a:chExt cx="2088720" cy="530280"/>
            </a:xfrm>
          </p:grpSpPr>
          <p:sp>
            <p:nvSpPr>
              <p:cNvPr id="475" name=""/>
              <p:cNvSpPr/>
              <p:nvPr/>
            </p:nvSpPr>
            <p:spPr>
              <a:xfrm rot="21120000">
                <a:off x="3851280" y="3291120"/>
                <a:ext cx="1037160" cy="243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ack 409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1120000">
                <a:off x="4879080" y="3146400"/>
                <a:ext cx="1037160" cy="2437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in204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3268080" y="3669120"/>
              <a:ext cx="2030040" cy="537840"/>
              <a:chOff x="3268080" y="3669120"/>
              <a:chExt cx="2030040" cy="537840"/>
            </a:xfrm>
          </p:grpSpPr>
          <p:sp>
            <p:nvSpPr>
              <p:cNvPr id="478" name=""/>
              <p:cNvSpPr/>
              <p:nvPr/>
            </p:nvSpPr>
            <p:spPr>
              <a:xfrm rot="480000">
                <a:off x="3279960" y="3737880"/>
                <a:ext cx="100584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480000">
                <a:off x="4277880" y="3863520"/>
                <a:ext cx="1005840" cy="274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in409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3196440" y="4015800"/>
              <a:ext cx="2023200" cy="520920"/>
              <a:chOff x="3196440" y="4015800"/>
              <a:chExt cx="2023200" cy="520920"/>
            </a:xfrm>
          </p:grpSpPr>
          <p:sp>
            <p:nvSpPr>
              <p:cNvPr id="481" name=""/>
              <p:cNvSpPr/>
              <p:nvPr/>
            </p:nvSpPr>
            <p:spPr>
              <a:xfrm rot="480000">
                <a:off x="3208320" y="4084200"/>
                <a:ext cx="100440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480000">
                <a:off x="4203000" y="4223880"/>
                <a:ext cx="100440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rot="21120000">
              <a:off x="4066920" y="4802400"/>
              <a:ext cx="1118880" cy="243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ack 61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1120000">
              <a:off x="5146200" y="4657320"/>
              <a:ext cx="976320" cy="243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n20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268080" y="5307120"/>
              <a:ext cx="2104200" cy="531000"/>
              <a:chOff x="3268080" y="5307120"/>
              <a:chExt cx="2104200" cy="531000"/>
            </a:xfrm>
          </p:grpSpPr>
          <p:sp>
            <p:nvSpPr>
              <p:cNvPr id="486" name=""/>
              <p:cNvSpPr/>
              <p:nvPr/>
            </p:nvSpPr>
            <p:spPr>
              <a:xfrm rot="480000">
                <a:off x="3279600" y="5378400"/>
                <a:ext cx="104400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480000">
                <a:off x="4313520" y="5522400"/>
                <a:ext cx="104652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196800" y="5739480"/>
              <a:ext cx="2102400" cy="531720"/>
              <a:chOff x="3196800" y="5739480"/>
              <a:chExt cx="2102400" cy="531720"/>
            </a:xfrm>
          </p:grpSpPr>
          <p:sp>
            <p:nvSpPr>
              <p:cNvPr id="489" name=""/>
              <p:cNvSpPr/>
              <p:nvPr/>
            </p:nvSpPr>
            <p:spPr>
              <a:xfrm rot="480000">
                <a:off x="3208320" y="5810760"/>
                <a:ext cx="104436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480000">
                <a:off x="4242600" y="5955840"/>
                <a:ext cx="104436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3196800" y="2501640"/>
              <a:ext cx="2035800" cy="524880"/>
              <a:chOff x="3196800" y="2501640"/>
              <a:chExt cx="2035800" cy="524880"/>
            </a:xfrm>
          </p:grpSpPr>
          <p:sp>
            <p:nvSpPr>
              <p:cNvPr id="492" name=""/>
              <p:cNvSpPr/>
              <p:nvPr/>
            </p:nvSpPr>
            <p:spPr>
              <a:xfrm rot="480000">
                <a:off x="3208680" y="2570760"/>
                <a:ext cx="1011240" cy="243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len 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480000">
                <a:off x="4204440" y="2713320"/>
                <a:ext cx="1015920" cy="2437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in409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层协议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03280" y="1844640"/>
            <a:ext cx="2463840" cy="58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03280" y="2619360"/>
            <a:ext cx="2463840" cy="58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03280" y="3395520"/>
            <a:ext cx="2463840" cy="588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4221000"/>
            <a:ext cx="2463840" cy="776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络接入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932120"/>
            <a:ext cx="1471680" cy="40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00200" y="2674800"/>
            <a:ext cx="1287360" cy="401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39800" y="3422520"/>
            <a:ext cx="1211400" cy="424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99040" y="2125800"/>
            <a:ext cx="3021120" cy="2724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72120" y="2395440"/>
            <a:ext cx="2643120" cy="897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18920" y="2276640"/>
            <a:ext cx="43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16680" y="3036960"/>
            <a:ext cx="1985760" cy="507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19640" y="2852640"/>
            <a:ext cx="82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48360" y="3500280"/>
            <a:ext cx="1127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18560" y="4221000"/>
            <a:ext cx="10249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75040" y="356724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报文格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523880" y="1676520"/>
            <a:ext cx="6705720" cy="4267080"/>
            <a:chOff x="1523880" y="1676520"/>
            <a:chExt cx="6705720" cy="4267080"/>
          </a:xfrm>
        </p:grpSpPr>
        <p:grpSp>
          <p:nvGrpSpPr>
            <p:cNvPr id="512" name=""/>
            <p:cNvGrpSpPr/>
            <p:nvPr/>
          </p:nvGrpSpPr>
          <p:grpSpPr>
            <a:xfrm>
              <a:off x="1523880" y="1676520"/>
              <a:ext cx="6705720" cy="4267080"/>
              <a:chOff x="1523880" y="1676520"/>
              <a:chExt cx="6705720" cy="4267080"/>
            </a:xfrm>
          </p:grpSpPr>
          <p:sp>
            <p:nvSpPr>
              <p:cNvPr id="513" name=""/>
              <p:cNvSpPr/>
              <p:nvPr/>
            </p:nvSpPr>
            <p:spPr>
              <a:xfrm>
                <a:off x="1523880" y="1676520"/>
                <a:ext cx="6705720" cy="4267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523880" y="236232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523880" y="2895480"/>
                <a:ext cx="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523880" y="304812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523880" y="380988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523880" y="525780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523880" y="4572000"/>
                <a:ext cx="66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76920" y="167652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362320" y="1676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276720" y="1676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67280" y="2362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200400" y="3048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601280" y="18741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版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54480" y="1874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报文长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97480" y="1874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服务类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29080" y="1828080"/>
              <a:ext cx="8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总   长  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49600" y="255996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标   示   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82560" y="248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标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95560" y="255996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片  偏  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13480" y="319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生存时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5720" y="32457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协   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48560" y="3245760"/>
              <a:ext cx="11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报 头 校 验 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43080" y="4083840"/>
              <a:ext cx="125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源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P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地  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14920" y="4769640"/>
              <a:ext cx="151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目  的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P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地  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74560" y="5455440"/>
              <a:ext cx="9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IP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选  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R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－地址解析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6200000">
            <a:off x="1763280" y="3284280"/>
            <a:ext cx="1043280" cy="1474920"/>
          </a:xfrm>
          <a:prstGeom prst="wedgeRoundRectCallout">
            <a:avLst>
              <a:gd name="adj1" fmla="val -39777"/>
              <a:gd name="adj2" fmla="val 71152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需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.0.0.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地址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89160" y="5603760"/>
            <a:ext cx="6476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30686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1160" y="308916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3059280" y="2577960"/>
            <a:ext cx="591840" cy="5731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5632560" y="2575080"/>
            <a:ext cx="595080" cy="5760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684360" y="2637720"/>
            <a:ext cx="233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10.0.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:00-E0-FC-00-00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19240" y="2708280"/>
            <a:ext cx="23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:10.0.0.2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:00-E0-FC-00-00-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593360" y="3165480"/>
            <a:ext cx="4038840" cy="2133360"/>
            <a:chOff x="1593360" y="3165480"/>
            <a:chExt cx="4038840" cy="2133360"/>
          </a:xfrm>
        </p:grpSpPr>
        <p:sp>
          <p:nvSpPr>
            <p:cNvPr id="548" name=""/>
            <p:cNvSpPr/>
            <p:nvPr/>
          </p:nvSpPr>
          <p:spPr>
            <a:xfrm>
              <a:off x="3727080" y="31654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593360" y="5298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60600" y="5222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781800" y="422064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P  Reques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032000" y="2631600"/>
            <a:ext cx="1447560" cy="457560"/>
            <a:chOff x="4032000" y="2631600"/>
            <a:chExt cx="1447560" cy="457560"/>
          </a:xfrm>
        </p:grpSpPr>
        <p:sp>
          <p:nvSpPr>
            <p:cNvPr id="553" name=""/>
            <p:cNvSpPr/>
            <p:nvPr/>
          </p:nvSpPr>
          <p:spPr>
            <a:xfrm flipH="1">
              <a:off x="4032000" y="30891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69440" y="2631600"/>
              <a:ext cx="111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P 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427640" y="1557360"/>
            <a:ext cx="2305080" cy="934920"/>
          </a:xfrm>
          <a:prstGeom prst="wedgeRoundRectCallout">
            <a:avLst>
              <a:gd name="adj1" fmla="val -45314"/>
              <a:gd name="adj2" fmla="val 63921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00720" y="170028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.0.0.2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应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0-E0-FC-00-00-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RAR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－反向地址解析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1618920" y="3284280"/>
            <a:ext cx="1043280" cy="1474920"/>
          </a:xfrm>
          <a:prstGeom prst="wedgeRoundRectCallout">
            <a:avLst>
              <a:gd name="adj1" fmla="val -39777"/>
              <a:gd name="adj2" fmla="val 71152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我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地址是什么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4440" y="560376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74920" y="30686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6440" y="308916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916360" y="257976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487840" y="2573280"/>
            <a:ext cx="596880" cy="5778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619280" y="270828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无盘工作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30160" y="27810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RP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449000" y="3165480"/>
            <a:ext cx="4038840" cy="2133360"/>
            <a:chOff x="1449000" y="3165480"/>
            <a:chExt cx="4038840" cy="2133360"/>
          </a:xfrm>
        </p:grpSpPr>
        <p:sp>
          <p:nvSpPr>
            <p:cNvPr id="567" name=""/>
            <p:cNvSpPr/>
            <p:nvPr/>
          </p:nvSpPr>
          <p:spPr>
            <a:xfrm>
              <a:off x="3582720" y="31654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1449000" y="5298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16240" y="5222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3636720" y="422064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RP Reques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858480" y="2631600"/>
            <a:ext cx="1476360" cy="457560"/>
            <a:chOff x="3858480" y="2631600"/>
            <a:chExt cx="1476360" cy="457560"/>
          </a:xfrm>
        </p:grpSpPr>
        <p:sp>
          <p:nvSpPr>
            <p:cNvPr id="572" name=""/>
            <p:cNvSpPr/>
            <p:nvPr/>
          </p:nvSpPr>
          <p:spPr>
            <a:xfrm flipH="1">
              <a:off x="3887280" y="30891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8480" y="2631600"/>
              <a:ext cx="124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RP 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284720" y="1484280"/>
            <a:ext cx="2305080" cy="934920"/>
          </a:xfrm>
          <a:prstGeom prst="wedgeRoundRectCallout">
            <a:avLst>
              <a:gd name="adj1" fmla="val -45314"/>
              <a:gd name="adj2" fmla="val 63921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356000" y="170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你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地址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CM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16200000">
            <a:off x="1618920" y="3284280"/>
            <a:ext cx="1043280" cy="1474920"/>
          </a:xfrm>
          <a:prstGeom prst="wedgeRoundRectCallout">
            <a:avLst>
              <a:gd name="adj1" fmla="val -39777"/>
              <a:gd name="adj2" fmla="val 71152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可达吗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44440" y="560376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4920" y="30686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27640" y="3141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916360" y="2577960"/>
            <a:ext cx="590400" cy="5731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6012000" y="2592360"/>
            <a:ext cx="576000" cy="5587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3583080" y="316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6240" y="522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38160" y="422064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CMP Ech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641040" y="2631600"/>
            <a:ext cx="1694520" cy="457560"/>
            <a:chOff x="3641040" y="2631600"/>
            <a:chExt cx="1694520" cy="457560"/>
          </a:xfrm>
        </p:grpSpPr>
        <p:sp>
          <p:nvSpPr>
            <p:cNvPr id="587" name=""/>
            <p:cNvSpPr/>
            <p:nvPr/>
          </p:nvSpPr>
          <p:spPr>
            <a:xfrm flipH="1">
              <a:off x="3887640" y="30891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41040" y="2631600"/>
              <a:ext cx="168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Echo 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4500720" y="1844640"/>
            <a:ext cx="1295280" cy="647640"/>
          </a:xfrm>
          <a:prstGeom prst="wedgeRoundRectCallout">
            <a:avLst>
              <a:gd name="adj1" fmla="val -41666"/>
              <a:gd name="adj2" fmla="val 70097"/>
              <a:gd name="adj3" fmla="val 16667"/>
            </a:avLst>
          </a:prstGeom>
          <a:solidFill>
            <a:srgbClr val="00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我在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2133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5636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657600" y="1600200"/>
            <a:ext cx="4267080" cy="1498680"/>
            <a:chOff x="3657600" y="1600200"/>
            <a:chExt cx="4267080" cy="1498680"/>
          </a:xfrm>
        </p:grpSpPr>
        <p:sp>
          <p:nvSpPr>
            <p:cNvPr id="596" name=""/>
            <p:cNvSpPr/>
            <p:nvPr/>
          </p:nvSpPr>
          <p:spPr>
            <a:xfrm>
              <a:off x="3708360" y="2247840"/>
              <a:ext cx="42163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20960" y="3098880"/>
              <a:ext cx="42037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66080" y="1600200"/>
              <a:ext cx="1989360" cy="14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第一章  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TCP/IP</a:t>
              </a: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协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第二章  子网规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3657600" y="2666880"/>
              <a:ext cx="311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3657600" y="1828800"/>
              <a:ext cx="29700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介绍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91520" cy="10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唯一标示一台网络设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私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31440" y="3213000"/>
            <a:ext cx="8517240" cy="2233800"/>
            <a:chOff x="631440" y="3213000"/>
            <a:chExt cx="8517240" cy="2233800"/>
          </a:xfrm>
        </p:grpSpPr>
        <p:sp>
          <p:nvSpPr>
            <p:cNvPr id="605" name=""/>
            <p:cNvSpPr/>
            <p:nvPr/>
          </p:nvSpPr>
          <p:spPr>
            <a:xfrm>
              <a:off x="4649760" y="3471840"/>
              <a:ext cx="14508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49760" y="3460680"/>
              <a:ext cx="13680" cy="2232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35" y="0"/>
                  </a:moveTo>
                  <a:lnTo>
                    <a:pt x="0" y="27"/>
                  </a:lnTo>
                  <a:lnTo>
                    <a:pt x="34" y="56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12240" y="3462480"/>
              <a:ext cx="13680" cy="2196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0" y="56"/>
                  </a:moveTo>
                  <a:lnTo>
                    <a:pt x="33" y="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87840" y="3394080"/>
              <a:ext cx="1080" cy="604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75600" y="3394080"/>
              <a:ext cx="24480" cy="11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28"/>
                  </a:move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87840" y="3497400"/>
              <a:ext cx="1080" cy="586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5600" y="3543480"/>
              <a:ext cx="24480" cy="126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0"/>
                  </a:moveTo>
                  <a:lnTo>
                    <a:pt x="34" y="28"/>
                  </a:lnTo>
                  <a:lnTo>
                    <a:pt x="67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73080" y="3718080"/>
              <a:ext cx="14472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02720" y="3719520"/>
              <a:ext cx="14508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11160" y="3639960"/>
              <a:ext cx="1440" cy="604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97480" y="3639960"/>
              <a:ext cx="25920" cy="1116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28"/>
                  </a:moveTo>
                  <a:lnTo>
                    <a:pt x="33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97480" y="3790800"/>
              <a:ext cx="25920" cy="1116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0"/>
                  </a:moveTo>
                  <a:lnTo>
                    <a:pt x="33" y="28"/>
                  </a:lnTo>
                  <a:lnTo>
                    <a:pt x="66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38840" y="4456080"/>
              <a:ext cx="144720" cy="180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77280" y="4376880"/>
              <a:ext cx="1080" cy="619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64680" y="4376880"/>
              <a:ext cx="24840" cy="126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28"/>
                  </a:moveTo>
                  <a:lnTo>
                    <a:pt x="33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64680" y="4527720"/>
              <a:ext cx="24840" cy="126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0"/>
                  </a:moveTo>
                  <a:lnTo>
                    <a:pt x="33" y="28"/>
                  </a:lnTo>
                  <a:lnTo>
                    <a:pt x="67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95600" y="5354640"/>
              <a:ext cx="14472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26320" y="5356080"/>
              <a:ext cx="145080" cy="180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57720" y="5345280"/>
              <a:ext cx="13680" cy="2196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0" y="57"/>
                  </a:moveTo>
                  <a:lnTo>
                    <a:pt x="33" y="29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33320" y="5275440"/>
              <a:ext cx="1440" cy="615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21080" y="5275440"/>
              <a:ext cx="24840" cy="108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67" y="29"/>
                  </a:move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77920" y="4357800"/>
              <a:ext cx="14472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3400" y="4280040"/>
              <a:ext cx="24480" cy="108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67" y="28"/>
                  </a:moveTo>
                  <a:lnTo>
                    <a:pt x="33" y="0"/>
                  </a:lnTo>
                  <a:lnTo>
                    <a:pt x="0" y="28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15640" y="4383000"/>
              <a:ext cx="1440" cy="586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03400" y="4430880"/>
              <a:ext cx="24480" cy="108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0" y="0"/>
                  </a:moveTo>
                  <a:lnTo>
                    <a:pt x="33" y="28"/>
                  </a:lnTo>
                  <a:lnTo>
                    <a:pt x="67" y="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935640" y="4005360"/>
              <a:ext cx="725400" cy="791640"/>
              <a:chOff x="935640" y="4005360"/>
              <a:chExt cx="725400" cy="791640"/>
            </a:xfrm>
          </p:grpSpPr>
          <p:sp>
            <p:nvSpPr>
              <p:cNvPr id="631" name=""/>
              <p:cNvSpPr/>
              <p:nvPr/>
            </p:nvSpPr>
            <p:spPr>
              <a:xfrm>
                <a:off x="1039680" y="4466880"/>
                <a:ext cx="533520" cy="147960"/>
              </a:xfrm>
              <a:prstGeom prst="rect">
                <a:avLst/>
              </a:prstGeom>
              <a:solidFill>
                <a:srgbClr val="c0c0c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54080" y="4527000"/>
                <a:ext cx="80280" cy="20880"/>
              </a:xfrm>
              <a:custGeom>
                <a:avLst/>
                <a:gdLst/>
                <a:ahLst/>
                <a:rect l="l" t="t" r="r" b="b"/>
                <a:pathLst>
                  <a:path w="101" h="28">
                    <a:moveTo>
                      <a:pt x="0" y="16"/>
                    </a:moveTo>
                    <a:lnTo>
                      <a:pt x="16" y="28"/>
                    </a:lnTo>
                    <a:lnTo>
                      <a:pt x="86" y="28"/>
                    </a:lnTo>
                    <a:lnTo>
                      <a:pt x="101" y="16"/>
                    </a:lnTo>
                    <a:lnTo>
                      <a:pt x="101" y="14"/>
                    </a:lnTo>
                    <a:lnTo>
                      <a:pt x="86" y="0"/>
                    </a:lnTo>
                    <a:lnTo>
                      <a:pt x="17" y="0"/>
                    </a:lnTo>
                    <a:lnTo>
                      <a:pt x="0" y="1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65040" y="4487760"/>
                <a:ext cx="196560" cy="108000"/>
              </a:xfrm>
              <a:custGeom>
                <a:avLst/>
                <a:gdLst/>
                <a:ahLst/>
                <a:rect l="l" t="t" r="r" b="b"/>
                <a:pathLst>
                  <a:path w="247" h="142">
                    <a:moveTo>
                      <a:pt x="0" y="123"/>
                    </a:moveTo>
                    <a:lnTo>
                      <a:pt x="19" y="142"/>
                    </a:lnTo>
                    <a:lnTo>
                      <a:pt x="229" y="142"/>
                    </a:lnTo>
                    <a:lnTo>
                      <a:pt x="247" y="122"/>
                    </a:lnTo>
                    <a:lnTo>
                      <a:pt x="247" y="22"/>
                    </a:lnTo>
                    <a:lnTo>
                      <a:pt x="243" y="8"/>
                    </a:lnTo>
                    <a:lnTo>
                      <a:pt x="228" y="0"/>
                    </a:lnTo>
                    <a:lnTo>
                      <a:pt x="19" y="0"/>
                    </a:lnTo>
                    <a:lnTo>
                      <a:pt x="0" y="17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056240" y="4005360"/>
                <a:ext cx="492840" cy="401760"/>
              </a:xfrm>
              <a:custGeom>
                <a:avLst/>
                <a:gdLst/>
                <a:ahLst/>
                <a:rect l="l" t="t" r="r" b="b"/>
                <a:pathLst>
                  <a:path w="623" h="521">
                    <a:moveTo>
                      <a:pt x="0" y="495"/>
                    </a:moveTo>
                    <a:lnTo>
                      <a:pt x="7" y="514"/>
                    </a:lnTo>
                    <a:lnTo>
                      <a:pt x="30" y="521"/>
                    </a:lnTo>
                    <a:lnTo>
                      <a:pt x="593" y="521"/>
                    </a:lnTo>
                    <a:lnTo>
                      <a:pt x="615" y="515"/>
                    </a:lnTo>
                    <a:lnTo>
                      <a:pt x="623" y="492"/>
                    </a:lnTo>
                    <a:lnTo>
                      <a:pt x="623" y="33"/>
                    </a:lnTo>
                    <a:lnTo>
                      <a:pt x="618" y="10"/>
                    </a:lnTo>
                    <a:lnTo>
                      <a:pt x="598" y="0"/>
                    </a:lnTo>
                    <a:lnTo>
                      <a:pt x="36" y="0"/>
                    </a:lnTo>
                    <a:lnTo>
                      <a:pt x="12" y="8"/>
                    </a:lnTo>
                    <a:lnTo>
                      <a:pt x="0" y="33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094400" y="4047120"/>
                <a:ext cx="423720" cy="309240"/>
              </a:xfrm>
              <a:custGeom>
                <a:avLst/>
                <a:gdLst/>
                <a:ahLst/>
                <a:rect l="l" t="t" r="r" b="b"/>
                <a:pathLst>
                  <a:path w="537" h="401">
                    <a:moveTo>
                      <a:pt x="0" y="379"/>
                    </a:moveTo>
                    <a:lnTo>
                      <a:pt x="6" y="394"/>
                    </a:lnTo>
                    <a:lnTo>
                      <a:pt x="26" y="401"/>
                    </a:lnTo>
                    <a:lnTo>
                      <a:pt x="512" y="401"/>
                    </a:lnTo>
                    <a:lnTo>
                      <a:pt x="530" y="396"/>
                    </a:lnTo>
                    <a:lnTo>
                      <a:pt x="537" y="378"/>
                    </a:lnTo>
                    <a:lnTo>
                      <a:pt x="537" y="25"/>
                    </a:lnTo>
                    <a:lnTo>
                      <a:pt x="534" y="9"/>
                    </a:lnTo>
                    <a:lnTo>
                      <a:pt x="516" y="1"/>
                    </a:lnTo>
                    <a:lnTo>
                      <a:pt x="33" y="0"/>
                    </a:lnTo>
                    <a:lnTo>
                      <a:pt x="11" y="2"/>
                    </a:lnTo>
                    <a:lnTo>
                      <a:pt x="0" y="19"/>
                    </a:lnTo>
                    <a:lnTo>
                      <a:pt x="0" y="3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08440" y="4060800"/>
                <a:ext cx="398160" cy="279360"/>
              </a:xfrm>
              <a:custGeom>
                <a:avLst/>
                <a:gdLst/>
                <a:ahLst/>
                <a:rect l="l" t="t" r="r" b="b"/>
                <a:pathLst>
                  <a:path w="504" h="362">
                    <a:moveTo>
                      <a:pt x="0" y="343"/>
                    </a:moveTo>
                    <a:lnTo>
                      <a:pt x="6" y="357"/>
                    </a:lnTo>
                    <a:lnTo>
                      <a:pt x="25" y="362"/>
                    </a:lnTo>
                    <a:lnTo>
                      <a:pt x="481" y="362"/>
                    </a:lnTo>
                    <a:lnTo>
                      <a:pt x="497" y="357"/>
                    </a:lnTo>
                    <a:lnTo>
                      <a:pt x="504" y="342"/>
                    </a:lnTo>
                    <a:lnTo>
                      <a:pt x="504" y="25"/>
                    </a:lnTo>
                    <a:lnTo>
                      <a:pt x="499" y="8"/>
                    </a:lnTo>
                    <a:lnTo>
                      <a:pt x="482" y="0"/>
                    </a:lnTo>
                    <a:lnTo>
                      <a:pt x="28" y="0"/>
                    </a:lnTo>
                    <a:lnTo>
                      <a:pt x="8" y="3"/>
                    </a:lnTo>
                    <a:lnTo>
                      <a:pt x="0" y="17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039680" y="4494600"/>
                <a:ext cx="2109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039680" y="4587120"/>
                <a:ext cx="21096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464480" y="4487760"/>
                <a:ext cx="10908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64480" y="4587120"/>
                <a:ext cx="10908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281600" y="4503960"/>
                <a:ext cx="165960" cy="468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03200" y="4531680"/>
                <a:ext cx="122760" cy="648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267560" y="4520160"/>
                <a:ext cx="19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267560" y="4550040"/>
                <a:ext cx="1915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485360" y="4517640"/>
                <a:ext cx="66600" cy="3240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935640" y="4635360"/>
                <a:ext cx="725400" cy="140760"/>
              </a:xfrm>
              <a:custGeom>
                <a:avLst/>
                <a:gdLst/>
                <a:ahLst/>
                <a:rect l="l" t="t" r="r" b="b"/>
                <a:pathLst>
                  <a:path w="919" h="181">
                    <a:moveTo>
                      <a:pt x="94" y="0"/>
                    </a:moveTo>
                    <a:lnTo>
                      <a:pt x="96" y="0"/>
                    </a:lnTo>
                    <a:lnTo>
                      <a:pt x="841" y="0"/>
                    </a:lnTo>
                    <a:lnTo>
                      <a:pt x="919" y="181"/>
                    </a:lnTo>
                    <a:lnTo>
                      <a:pt x="0" y="18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935640" y="4776120"/>
                <a:ext cx="725400" cy="20880"/>
              </a:xfrm>
              <a:custGeom>
                <a:avLst/>
                <a:gdLst/>
                <a:ahLst/>
                <a:rect l="l" t="t" r="r" b="b"/>
                <a:pathLst>
                  <a:path w="919" h="27">
                    <a:moveTo>
                      <a:pt x="0" y="0"/>
                    </a:moveTo>
                    <a:lnTo>
                      <a:pt x="919" y="0"/>
                    </a:lnTo>
                    <a:lnTo>
                      <a:pt x="895" y="27"/>
                    </a:lnTo>
                    <a:lnTo>
                      <a:pt x="26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023120" y="4646880"/>
                <a:ext cx="464760" cy="14040"/>
              </a:xfrm>
              <a:custGeom>
                <a:avLst/>
                <a:gdLst/>
                <a:ahLst/>
                <a:rect l="l" t="t" r="r" b="b"/>
                <a:pathLst>
                  <a:path w="587" h="18">
                    <a:moveTo>
                      <a:pt x="5" y="0"/>
                    </a:moveTo>
                    <a:lnTo>
                      <a:pt x="0" y="18"/>
                    </a:lnTo>
                    <a:lnTo>
                      <a:pt x="587" y="18"/>
                    </a:lnTo>
                    <a:lnTo>
                      <a:pt x="57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985320" y="4667760"/>
                <a:ext cx="421560" cy="66960"/>
              </a:xfrm>
              <a:custGeom>
                <a:avLst/>
                <a:gdLst/>
                <a:ahLst/>
                <a:rect l="l" t="t" r="r" b="b"/>
                <a:pathLst>
                  <a:path w="536" h="86">
                    <a:moveTo>
                      <a:pt x="45" y="0"/>
                    </a:moveTo>
                    <a:lnTo>
                      <a:pt x="530" y="0"/>
                    </a:lnTo>
                    <a:lnTo>
                      <a:pt x="536" y="86"/>
                    </a:lnTo>
                    <a:lnTo>
                      <a:pt x="485" y="85"/>
                    </a:lnTo>
                    <a:lnTo>
                      <a:pt x="485" y="75"/>
                    </a:lnTo>
                    <a:lnTo>
                      <a:pt x="457" y="75"/>
                    </a:lnTo>
                    <a:lnTo>
                      <a:pt x="456" y="85"/>
                    </a:lnTo>
                    <a:lnTo>
                      <a:pt x="98" y="85"/>
                    </a:lnTo>
                    <a:lnTo>
                      <a:pt x="100" y="75"/>
                    </a:lnTo>
                    <a:lnTo>
                      <a:pt x="68" y="76"/>
                    </a:lnTo>
                    <a:lnTo>
                      <a:pt x="64" y="85"/>
                    </a:lnTo>
                    <a:lnTo>
                      <a:pt x="0" y="8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414440" y="466776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09" h="40">
                    <a:moveTo>
                      <a:pt x="1" y="0"/>
                    </a:moveTo>
                    <a:lnTo>
                      <a:pt x="0" y="0"/>
                    </a:lnTo>
                    <a:lnTo>
                      <a:pt x="5" y="40"/>
                    </a:lnTo>
                    <a:lnTo>
                      <a:pt x="109" y="40"/>
                    </a:lnTo>
                    <a:lnTo>
                      <a:pt x="99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419120" y="4702320"/>
                <a:ext cx="89640" cy="32400"/>
              </a:xfrm>
              <a:custGeom>
                <a:avLst/>
                <a:gdLst/>
                <a:ahLst/>
                <a:rect l="l" t="t" r="r" b="b"/>
                <a:pathLst>
                  <a:path w="114" h="44">
                    <a:moveTo>
                      <a:pt x="35" y="0"/>
                    </a:moveTo>
                    <a:lnTo>
                      <a:pt x="35" y="14"/>
                    </a:lnTo>
                    <a:lnTo>
                      <a:pt x="0" y="14"/>
                    </a:lnTo>
                    <a:lnTo>
                      <a:pt x="5" y="44"/>
                    </a:lnTo>
                    <a:lnTo>
                      <a:pt x="114" y="44"/>
                    </a:lnTo>
                    <a:lnTo>
                      <a:pt x="105" y="13"/>
                    </a:lnTo>
                    <a:lnTo>
                      <a:pt x="69" y="13"/>
                    </a:lnTo>
                    <a:lnTo>
                      <a:pt x="69" y="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501920" y="4669920"/>
                <a:ext cx="127800" cy="6480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26" y="85"/>
                    </a:lnTo>
                    <a:lnTo>
                      <a:pt x="163" y="85"/>
                    </a:lnTo>
                    <a:lnTo>
                      <a:pt x="1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84400" y="4407120"/>
                <a:ext cx="241560" cy="39240"/>
              </a:xfrm>
              <a:prstGeom prst="roundRect">
                <a:avLst>
                  <a:gd name="adj" fmla="val 238097"/>
                </a:avLst>
              </a:pr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485360" y="4374720"/>
                <a:ext cx="33120" cy="1800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25360" y="4430160"/>
                <a:ext cx="362520" cy="29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125360" y="4455360"/>
                <a:ext cx="360000" cy="936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57" name="" descr=""/>
            <p:cNvPicPr/>
            <p:nvPr/>
          </p:nvPicPr>
          <p:blipFill>
            <a:blip r:embed="rId1"/>
            <a:stretch/>
          </p:blipFill>
          <p:spPr>
            <a:xfrm>
              <a:off x="2827440" y="4149720"/>
              <a:ext cx="89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4228200" y="4941720"/>
              <a:ext cx="8971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3"/>
            <a:stretch/>
          </p:blipFill>
          <p:spPr>
            <a:xfrm>
              <a:off x="5698440" y="4149720"/>
              <a:ext cx="89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4"/>
            <a:stretch/>
          </p:blipFill>
          <p:spPr>
            <a:xfrm>
              <a:off x="5278320" y="3213000"/>
              <a:ext cx="8971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5"/>
            <a:stretch/>
          </p:blipFill>
          <p:spPr>
            <a:xfrm>
              <a:off x="3457440" y="3213000"/>
              <a:ext cx="897120" cy="50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2" name=""/>
            <p:cNvGrpSpPr/>
            <p:nvPr/>
          </p:nvGrpSpPr>
          <p:grpSpPr>
            <a:xfrm>
              <a:off x="7800120" y="4005360"/>
              <a:ext cx="725400" cy="791640"/>
              <a:chOff x="7800120" y="4005360"/>
              <a:chExt cx="725400" cy="791640"/>
            </a:xfrm>
          </p:grpSpPr>
          <p:sp>
            <p:nvSpPr>
              <p:cNvPr id="663" name=""/>
              <p:cNvSpPr/>
              <p:nvPr/>
            </p:nvSpPr>
            <p:spPr>
              <a:xfrm>
                <a:off x="7904160" y="4466880"/>
                <a:ext cx="533520" cy="147960"/>
              </a:xfrm>
              <a:prstGeom prst="rect">
                <a:avLst/>
              </a:prstGeom>
              <a:solidFill>
                <a:srgbClr val="c0c0c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918560" y="4527000"/>
                <a:ext cx="80280" cy="20880"/>
              </a:xfrm>
              <a:custGeom>
                <a:avLst/>
                <a:gdLst/>
                <a:ahLst/>
                <a:rect l="l" t="t" r="r" b="b"/>
                <a:pathLst>
                  <a:path w="101" h="28">
                    <a:moveTo>
                      <a:pt x="0" y="16"/>
                    </a:moveTo>
                    <a:lnTo>
                      <a:pt x="16" y="28"/>
                    </a:lnTo>
                    <a:lnTo>
                      <a:pt x="86" y="28"/>
                    </a:lnTo>
                    <a:lnTo>
                      <a:pt x="101" y="16"/>
                    </a:lnTo>
                    <a:lnTo>
                      <a:pt x="101" y="14"/>
                    </a:lnTo>
                    <a:lnTo>
                      <a:pt x="86" y="0"/>
                    </a:lnTo>
                    <a:lnTo>
                      <a:pt x="17" y="0"/>
                    </a:lnTo>
                    <a:lnTo>
                      <a:pt x="0" y="1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129520" y="4487760"/>
                <a:ext cx="196560" cy="108000"/>
              </a:xfrm>
              <a:custGeom>
                <a:avLst/>
                <a:gdLst/>
                <a:ahLst/>
                <a:rect l="l" t="t" r="r" b="b"/>
                <a:pathLst>
                  <a:path w="247" h="142">
                    <a:moveTo>
                      <a:pt x="0" y="123"/>
                    </a:moveTo>
                    <a:lnTo>
                      <a:pt x="19" y="142"/>
                    </a:lnTo>
                    <a:lnTo>
                      <a:pt x="229" y="142"/>
                    </a:lnTo>
                    <a:lnTo>
                      <a:pt x="247" y="122"/>
                    </a:lnTo>
                    <a:lnTo>
                      <a:pt x="247" y="22"/>
                    </a:lnTo>
                    <a:lnTo>
                      <a:pt x="243" y="8"/>
                    </a:lnTo>
                    <a:lnTo>
                      <a:pt x="228" y="0"/>
                    </a:lnTo>
                    <a:lnTo>
                      <a:pt x="19" y="0"/>
                    </a:lnTo>
                    <a:lnTo>
                      <a:pt x="0" y="17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920720" y="4005360"/>
                <a:ext cx="492840" cy="401760"/>
              </a:xfrm>
              <a:custGeom>
                <a:avLst/>
                <a:gdLst/>
                <a:ahLst/>
                <a:rect l="l" t="t" r="r" b="b"/>
                <a:pathLst>
                  <a:path w="623" h="521">
                    <a:moveTo>
                      <a:pt x="0" y="495"/>
                    </a:moveTo>
                    <a:lnTo>
                      <a:pt x="7" y="514"/>
                    </a:lnTo>
                    <a:lnTo>
                      <a:pt x="30" y="521"/>
                    </a:lnTo>
                    <a:lnTo>
                      <a:pt x="593" y="521"/>
                    </a:lnTo>
                    <a:lnTo>
                      <a:pt x="615" y="515"/>
                    </a:lnTo>
                    <a:lnTo>
                      <a:pt x="623" y="492"/>
                    </a:lnTo>
                    <a:lnTo>
                      <a:pt x="623" y="33"/>
                    </a:lnTo>
                    <a:lnTo>
                      <a:pt x="618" y="10"/>
                    </a:lnTo>
                    <a:lnTo>
                      <a:pt x="598" y="0"/>
                    </a:lnTo>
                    <a:lnTo>
                      <a:pt x="36" y="0"/>
                    </a:lnTo>
                    <a:lnTo>
                      <a:pt x="12" y="8"/>
                    </a:lnTo>
                    <a:lnTo>
                      <a:pt x="0" y="33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958880" y="4047120"/>
                <a:ext cx="423720" cy="309240"/>
              </a:xfrm>
              <a:custGeom>
                <a:avLst/>
                <a:gdLst/>
                <a:ahLst/>
                <a:rect l="l" t="t" r="r" b="b"/>
                <a:pathLst>
                  <a:path w="537" h="401">
                    <a:moveTo>
                      <a:pt x="0" y="379"/>
                    </a:moveTo>
                    <a:lnTo>
                      <a:pt x="6" y="394"/>
                    </a:lnTo>
                    <a:lnTo>
                      <a:pt x="26" y="401"/>
                    </a:lnTo>
                    <a:lnTo>
                      <a:pt x="512" y="401"/>
                    </a:lnTo>
                    <a:lnTo>
                      <a:pt x="530" y="396"/>
                    </a:lnTo>
                    <a:lnTo>
                      <a:pt x="537" y="378"/>
                    </a:lnTo>
                    <a:lnTo>
                      <a:pt x="537" y="25"/>
                    </a:lnTo>
                    <a:lnTo>
                      <a:pt x="534" y="9"/>
                    </a:lnTo>
                    <a:lnTo>
                      <a:pt x="516" y="1"/>
                    </a:lnTo>
                    <a:lnTo>
                      <a:pt x="33" y="0"/>
                    </a:lnTo>
                    <a:lnTo>
                      <a:pt x="11" y="2"/>
                    </a:lnTo>
                    <a:lnTo>
                      <a:pt x="0" y="19"/>
                    </a:lnTo>
                    <a:lnTo>
                      <a:pt x="0" y="37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972920" y="4060800"/>
                <a:ext cx="398160" cy="279360"/>
              </a:xfrm>
              <a:custGeom>
                <a:avLst/>
                <a:gdLst/>
                <a:ahLst/>
                <a:rect l="l" t="t" r="r" b="b"/>
                <a:pathLst>
                  <a:path w="504" h="362">
                    <a:moveTo>
                      <a:pt x="0" y="343"/>
                    </a:moveTo>
                    <a:lnTo>
                      <a:pt x="6" y="357"/>
                    </a:lnTo>
                    <a:lnTo>
                      <a:pt x="25" y="362"/>
                    </a:lnTo>
                    <a:lnTo>
                      <a:pt x="481" y="362"/>
                    </a:lnTo>
                    <a:lnTo>
                      <a:pt x="497" y="357"/>
                    </a:lnTo>
                    <a:lnTo>
                      <a:pt x="504" y="342"/>
                    </a:lnTo>
                    <a:lnTo>
                      <a:pt x="504" y="25"/>
                    </a:lnTo>
                    <a:lnTo>
                      <a:pt x="499" y="8"/>
                    </a:lnTo>
                    <a:lnTo>
                      <a:pt x="482" y="0"/>
                    </a:lnTo>
                    <a:lnTo>
                      <a:pt x="28" y="0"/>
                    </a:lnTo>
                    <a:lnTo>
                      <a:pt x="8" y="3"/>
                    </a:lnTo>
                    <a:lnTo>
                      <a:pt x="0" y="17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904160" y="4494600"/>
                <a:ext cx="2109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04160" y="4587120"/>
                <a:ext cx="21096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328960" y="4487760"/>
                <a:ext cx="10908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328960" y="4587120"/>
                <a:ext cx="109080" cy="6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146080" y="4503960"/>
                <a:ext cx="165960" cy="468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67680" y="4531680"/>
                <a:ext cx="122760" cy="648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132040" y="4520160"/>
                <a:ext cx="19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132040" y="4550040"/>
                <a:ext cx="1915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349840" y="4517640"/>
                <a:ext cx="66600" cy="3240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800120" y="4635360"/>
                <a:ext cx="725400" cy="140760"/>
              </a:xfrm>
              <a:custGeom>
                <a:avLst/>
                <a:gdLst/>
                <a:ahLst/>
                <a:rect l="l" t="t" r="r" b="b"/>
                <a:pathLst>
                  <a:path w="919" h="181">
                    <a:moveTo>
                      <a:pt x="94" y="0"/>
                    </a:moveTo>
                    <a:lnTo>
                      <a:pt x="96" y="0"/>
                    </a:lnTo>
                    <a:lnTo>
                      <a:pt x="841" y="0"/>
                    </a:lnTo>
                    <a:lnTo>
                      <a:pt x="919" y="181"/>
                    </a:lnTo>
                    <a:lnTo>
                      <a:pt x="0" y="18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800120" y="4776120"/>
                <a:ext cx="725400" cy="20880"/>
              </a:xfrm>
              <a:custGeom>
                <a:avLst/>
                <a:gdLst/>
                <a:ahLst/>
                <a:rect l="l" t="t" r="r" b="b"/>
                <a:pathLst>
                  <a:path w="919" h="27">
                    <a:moveTo>
                      <a:pt x="0" y="0"/>
                    </a:moveTo>
                    <a:lnTo>
                      <a:pt x="919" y="0"/>
                    </a:lnTo>
                    <a:lnTo>
                      <a:pt x="895" y="27"/>
                    </a:lnTo>
                    <a:lnTo>
                      <a:pt x="26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887600" y="4646880"/>
                <a:ext cx="464760" cy="14040"/>
              </a:xfrm>
              <a:custGeom>
                <a:avLst/>
                <a:gdLst/>
                <a:ahLst/>
                <a:rect l="l" t="t" r="r" b="b"/>
                <a:pathLst>
                  <a:path w="587" h="18">
                    <a:moveTo>
                      <a:pt x="5" y="0"/>
                    </a:moveTo>
                    <a:lnTo>
                      <a:pt x="0" y="18"/>
                    </a:lnTo>
                    <a:lnTo>
                      <a:pt x="587" y="18"/>
                    </a:lnTo>
                    <a:lnTo>
                      <a:pt x="57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849800" y="4667760"/>
                <a:ext cx="421560" cy="66960"/>
              </a:xfrm>
              <a:custGeom>
                <a:avLst/>
                <a:gdLst/>
                <a:ahLst/>
                <a:rect l="l" t="t" r="r" b="b"/>
                <a:pathLst>
                  <a:path w="536" h="86">
                    <a:moveTo>
                      <a:pt x="45" y="0"/>
                    </a:moveTo>
                    <a:lnTo>
                      <a:pt x="530" y="0"/>
                    </a:lnTo>
                    <a:lnTo>
                      <a:pt x="536" y="86"/>
                    </a:lnTo>
                    <a:lnTo>
                      <a:pt x="485" y="85"/>
                    </a:lnTo>
                    <a:lnTo>
                      <a:pt x="485" y="75"/>
                    </a:lnTo>
                    <a:lnTo>
                      <a:pt x="457" y="75"/>
                    </a:lnTo>
                    <a:lnTo>
                      <a:pt x="456" y="85"/>
                    </a:lnTo>
                    <a:lnTo>
                      <a:pt x="98" y="85"/>
                    </a:lnTo>
                    <a:lnTo>
                      <a:pt x="100" y="75"/>
                    </a:lnTo>
                    <a:lnTo>
                      <a:pt x="68" y="76"/>
                    </a:lnTo>
                    <a:lnTo>
                      <a:pt x="64" y="85"/>
                    </a:lnTo>
                    <a:lnTo>
                      <a:pt x="0" y="8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278920" y="4667760"/>
                <a:ext cx="85320" cy="29520"/>
              </a:xfrm>
              <a:custGeom>
                <a:avLst/>
                <a:gdLst/>
                <a:ahLst/>
                <a:rect l="l" t="t" r="r" b="b"/>
                <a:pathLst>
                  <a:path w="109" h="40">
                    <a:moveTo>
                      <a:pt x="1" y="0"/>
                    </a:moveTo>
                    <a:lnTo>
                      <a:pt x="0" y="0"/>
                    </a:lnTo>
                    <a:lnTo>
                      <a:pt x="5" y="40"/>
                    </a:lnTo>
                    <a:lnTo>
                      <a:pt x="109" y="40"/>
                    </a:lnTo>
                    <a:lnTo>
                      <a:pt x="99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283600" y="4702320"/>
                <a:ext cx="89640" cy="32400"/>
              </a:xfrm>
              <a:custGeom>
                <a:avLst/>
                <a:gdLst/>
                <a:ahLst/>
                <a:rect l="l" t="t" r="r" b="b"/>
                <a:pathLst>
                  <a:path w="114" h="44">
                    <a:moveTo>
                      <a:pt x="35" y="0"/>
                    </a:moveTo>
                    <a:lnTo>
                      <a:pt x="35" y="14"/>
                    </a:lnTo>
                    <a:lnTo>
                      <a:pt x="0" y="14"/>
                    </a:lnTo>
                    <a:lnTo>
                      <a:pt x="5" y="44"/>
                    </a:lnTo>
                    <a:lnTo>
                      <a:pt x="114" y="44"/>
                    </a:lnTo>
                    <a:lnTo>
                      <a:pt x="105" y="13"/>
                    </a:lnTo>
                    <a:lnTo>
                      <a:pt x="69" y="13"/>
                    </a:lnTo>
                    <a:lnTo>
                      <a:pt x="69" y="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366400" y="4669920"/>
                <a:ext cx="127800" cy="6480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26" y="85"/>
                    </a:lnTo>
                    <a:lnTo>
                      <a:pt x="163" y="85"/>
                    </a:lnTo>
                    <a:lnTo>
                      <a:pt x="1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048880" y="4407120"/>
                <a:ext cx="241560" cy="39240"/>
              </a:xfrm>
              <a:prstGeom prst="roundRect">
                <a:avLst>
                  <a:gd name="adj" fmla="val 238097"/>
                </a:avLst>
              </a:prstGeom>
              <a:solidFill>
                <a:srgbClr val="6e6e6e"/>
              </a:solidFill>
              <a:ln w="0">
                <a:solidFill>
                  <a:srgbClr val="6e6e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349840" y="4374720"/>
                <a:ext cx="33120" cy="18000"/>
              </a:xfrm>
              <a:prstGeom prst="rect">
                <a:avLst/>
              </a:prstGeom>
              <a:solidFill>
                <a:srgbClr val="464646"/>
              </a:solidFill>
              <a:ln w="0">
                <a:solidFill>
                  <a:srgbClr val="46464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989840" y="4430160"/>
                <a:ext cx="362520" cy="29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989840" y="4455360"/>
                <a:ext cx="360000" cy="9360"/>
              </a:xfrm>
              <a:prstGeom prst="rect">
                <a:avLst/>
              </a:prstGeom>
              <a:solidFill>
                <a:srgbClr val="80808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1565640" y="4437000"/>
              <a:ext cx="126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388320" y="3646440"/>
              <a:ext cx="4892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67680" y="4437000"/>
              <a:ext cx="203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59480" y="3646440"/>
              <a:ext cx="4892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47560" y="4654440"/>
              <a:ext cx="980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068080" y="4654080"/>
              <a:ext cx="98064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18320" y="3646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97680" y="3429000"/>
              <a:ext cx="98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40120" y="4437000"/>
              <a:ext cx="1330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1440" y="349884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.110.192.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367760" y="350208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.130.188.1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93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81040"/>
            <a:ext cx="5241960" cy="301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描述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TCP/IP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协议与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OSI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参考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描述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TCP/IP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协议栈各层次功能和原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描述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IP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地址分类和应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1375"/>
              </a:spcBef>
              <a:spcAft>
                <a:spcPts val="1375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进行子网地址划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676520"/>
            <a:ext cx="5181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99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分类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539640" y="1343160"/>
          <a:ext cx="7777440" cy="43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3160"/>
                    <a:ext cx="777744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特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地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382760" y="1125360"/>
            <a:ext cx="6476760" cy="5105160"/>
            <a:chOff x="1382760" y="1125360"/>
            <a:chExt cx="6476760" cy="5105160"/>
          </a:xfrm>
        </p:grpSpPr>
        <p:sp>
          <p:nvSpPr>
            <p:cNvPr id="705" name=""/>
            <p:cNvSpPr/>
            <p:nvPr/>
          </p:nvSpPr>
          <p:spPr>
            <a:xfrm>
              <a:off x="1382760" y="1125360"/>
              <a:ext cx="6476760" cy="51051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82760" y="173484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82760" y="264924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82760" y="356364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82760" y="440172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82760" y="524016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25760" y="112536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68760" y="112536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73520" y="112536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36840" y="1262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0000"/>
                  </a:solidFill>
                  <a:latin typeface="Times New Roman"/>
                </a:rPr>
                <a:t>网络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39960" y="1232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0000"/>
                  </a:solidFill>
                  <a:latin typeface="Times New Roman"/>
                </a:rPr>
                <a:t>主机部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63840" y="1232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0000"/>
                  </a:solidFill>
                  <a:latin typeface="Times New Roman"/>
                </a:rPr>
                <a:t>地址类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64800" y="123228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800000"/>
                  </a:solidFill>
                  <a:latin typeface="Times New Roman"/>
                </a:rPr>
                <a:t>用 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65080" y="3867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1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27000" y="383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89880" y="47520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全“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0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89880" y="559008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全“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2680" y="29232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58320" y="203904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全“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0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52680" y="2008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758320" y="295344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全“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86600" y="1962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网络地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27880" y="1962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代表一个网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0280" y="2953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广播地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86800" y="295344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特定网段的所有节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94440" y="3837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回环地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75520" y="3837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回环测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10280" y="5544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广播地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69960" y="55141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本网段所有节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18120" y="4675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所有网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64320" y="4477680"/>
              <a:ext cx="193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华为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Quidway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路由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于指定默认路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无子网编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子网编址是指使用自然掩码，不对网段进行细分。比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网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72.16.0.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55.255.0.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掩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2608200" y="4013280"/>
          <a:ext cx="385596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8200" y="4013280"/>
                    <a:ext cx="38559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3894120" y="5262480"/>
          <a:ext cx="24415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4120" y="5262480"/>
                    <a:ext cx="2441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2057400" y="2514600"/>
          <a:ext cx="24433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2514600"/>
                    <a:ext cx="2443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4719600" y="2514600"/>
          <a:ext cx="24433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9600" y="2514600"/>
                    <a:ext cx="2443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6" name=""/>
          <p:cNvGrpSpPr/>
          <p:nvPr/>
        </p:nvGrpSpPr>
        <p:grpSpPr>
          <a:xfrm>
            <a:off x="2843280" y="3213000"/>
            <a:ext cx="745560" cy="792000"/>
            <a:chOff x="2843280" y="3213000"/>
            <a:chExt cx="745560" cy="792000"/>
          </a:xfrm>
        </p:grpSpPr>
        <p:sp>
          <p:nvSpPr>
            <p:cNvPr id="747" name=""/>
            <p:cNvSpPr/>
            <p:nvPr/>
          </p:nvSpPr>
          <p:spPr>
            <a:xfrm>
              <a:off x="2950200" y="3674520"/>
              <a:ext cx="54828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965320" y="373500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81680" y="3695400"/>
              <a:ext cx="201960" cy="10836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67480" y="321300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06720" y="3254760"/>
              <a:ext cx="43560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21120" y="326844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50200" y="370224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0200" y="379512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86520" y="369540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86520" y="379512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98960" y="371196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20920" y="373968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4560" y="3728160"/>
              <a:ext cx="19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84560" y="3758040"/>
              <a:ext cx="196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08120" y="372528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3280" y="3843360"/>
              <a:ext cx="74556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43280" y="3984120"/>
              <a:ext cx="74556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33280" y="385488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94400" y="3875760"/>
              <a:ext cx="43344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35400" y="3875760"/>
              <a:ext cx="8748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40080" y="391032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25400" y="387792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98880" y="361476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08120" y="358236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38040" y="3637800"/>
              <a:ext cx="37260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38040" y="366300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788000" y="4581360"/>
            <a:ext cx="745560" cy="792000"/>
            <a:chOff x="4788000" y="4581360"/>
            <a:chExt cx="745560" cy="792000"/>
          </a:xfrm>
        </p:grpSpPr>
        <p:sp>
          <p:nvSpPr>
            <p:cNvPr id="774" name=""/>
            <p:cNvSpPr/>
            <p:nvPr/>
          </p:nvSpPr>
          <p:spPr>
            <a:xfrm>
              <a:off x="4894920" y="5042880"/>
              <a:ext cx="54828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910040" y="510336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126400" y="5063760"/>
              <a:ext cx="201960" cy="10836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12200" y="458136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51440" y="4623120"/>
              <a:ext cx="43560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65840" y="463680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94920" y="507060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94920" y="516348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31240" y="506376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31240" y="516348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43680" y="508032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65640" y="510804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29280" y="5096520"/>
              <a:ext cx="19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29280" y="5126400"/>
              <a:ext cx="196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52840" y="509364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88000" y="5211720"/>
              <a:ext cx="74556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788000" y="5352480"/>
              <a:ext cx="74556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78000" y="522324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39120" y="5244120"/>
              <a:ext cx="43344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80120" y="5244120"/>
              <a:ext cx="8748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84800" y="527868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70120" y="524628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43600" y="498312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352840" y="495072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82760" y="5006160"/>
              <a:ext cx="37260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82760" y="503136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5435640" y="3213000"/>
            <a:ext cx="745560" cy="792000"/>
            <a:chOff x="5435640" y="3213000"/>
            <a:chExt cx="745560" cy="792000"/>
          </a:xfrm>
        </p:grpSpPr>
        <p:sp>
          <p:nvSpPr>
            <p:cNvPr id="801" name=""/>
            <p:cNvSpPr/>
            <p:nvPr/>
          </p:nvSpPr>
          <p:spPr>
            <a:xfrm>
              <a:off x="5542560" y="3674520"/>
              <a:ext cx="54828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7680" y="373500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74040" y="3695400"/>
              <a:ext cx="201960" cy="10836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59840" y="321300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99080" y="3254760"/>
              <a:ext cx="43560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613480" y="326844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42560" y="370224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542560" y="379512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78880" y="369540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78880" y="379512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91320" y="371196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13280" y="373968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76920" y="3728160"/>
              <a:ext cx="19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76920" y="3758040"/>
              <a:ext cx="196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00480" y="372528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35640" y="3843360"/>
              <a:ext cx="74556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35640" y="3984120"/>
              <a:ext cx="74556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5640" y="385488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86760" y="3875760"/>
              <a:ext cx="43344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27760" y="3875760"/>
              <a:ext cx="8748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32440" y="391032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17760" y="387792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91240" y="361476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00480" y="358236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30400" y="3637800"/>
              <a:ext cx="37260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30400" y="366300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带子网编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619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网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72.16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3610080" y="2800440"/>
          <a:ext cx="3463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0080" y="2800440"/>
                    <a:ext cx="3463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1219320" y="4727520"/>
          <a:ext cx="3463920" cy="6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727520"/>
                    <a:ext cx="34639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"/>
          <p:cNvSpPr/>
          <p:nvPr/>
        </p:nvSpPr>
        <p:spPr>
          <a:xfrm flipV="1">
            <a:off x="4518000" y="3763440"/>
            <a:ext cx="988920" cy="48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886480" y="5459760"/>
            <a:ext cx="3218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172.16.8.1 </a:t>
            </a: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，</a:t>
            </a: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83120" y="1522800"/>
            <a:ext cx="3156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172.16.4.1</a:t>
            </a: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，</a:t>
            </a:r>
            <a:r>
              <a:rPr b="0" lang="zh-CN" sz="19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084720" y="1989000"/>
            <a:ext cx="745920" cy="792000"/>
            <a:chOff x="6084720" y="1989000"/>
            <a:chExt cx="745920" cy="792000"/>
          </a:xfrm>
        </p:grpSpPr>
        <p:sp>
          <p:nvSpPr>
            <p:cNvPr id="837" name=""/>
            <p:cNvSpPr/>
            <p:nvPr/>
          </p:nvSpPr>
          <p:spPr>
            <a:xfrm>
              <a:off x="6191640" y="2450520"/>
              <a:ext cx="54864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206760" y="251100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23480" y="2471400"/>
              <a:ext cx="201960" cy="10836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08920" y="198900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48160" y="2030760"/>
              <a:ext cx="43596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2560" y="204444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91640" y="247824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91640" y="257112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28320" y="247140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628320" y="257112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40400" y="248796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62720" y="251568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26000" y="2504160"/>
              <a:ext cx="199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26000" y="2534040"/>
              <a:ext cx="1972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49920" y="250128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84720" y="2619360"/>
              <a:ext cx="74592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84720" y="2760120"/>
              <a:ext cx="74592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74720" y="263088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35840" y="2651760"/>
              <a:ext cx="43380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76840" y="2651760"/>
              <a:ext cx="8784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81880" y="268632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67200" y="265392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40320" y="239076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49920" y="235836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79480" y="2413800"/>
              <a:ext cx="37296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79480" y="243900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1908000" y="5229360"/>
            <a:ext cx="745920" cy="791640"/>
            <a:chOff x="1908000" y="5229360"/>
            <a:chExt cx="745920" cy="791640"/>
          </a:xfrm>
        </p:grpSpPr>
        <p:sp>
          <p:nvSpPr>
            <p:cNvPr id="864" name=""/>
            <p:cNvSpPr/>
            <p:nvPr/>
          </p:nvSpPr>
          <p:spPr>
            <a:xfrm>
              <a:off x="2014920" y="5690880"/>
              <a:ext cx="548640" cy="14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30040" y="5751000"/>
              <a:ext cx="82800" cy="20880"/>
            </a:xfrm>
            <a:custGeom>
              <a:avLst/>
              <a:gdLst/>
              <a:ahLst/>
              <a:rect l="l" t="t" r="r" b="b"/>
              <a:pathLst>
                <a:path w="101" h="28">
                  <a:moveTo>
                    <a:pt x="0" y="16"/>
                  </a:moveTo>
                  <a:lnTo>
                    <a:pt x="16" y="28"/>
                  </a:lnTo>
                  <a:lnTo>
                    <a:pt x="86" y="2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86" y="0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246760" y="5711760"/>
              <a:ext cx="201960" cy="10800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123"/>
                  </a:moveTo>
                  <a:lnTo>
                    <a:pt x="19" y="142"/>
                  </a:lnTo>
                  <a:lnTo>
                    <a:pt x="229" y="142"/>
                  </a:lnTo>
                  <a:lnTo>
                    <a:pt x="247" y="122"/>
                  </a:lnTo>
                  <a:lnTo>
                    <a:pt x="247" y="22"/>
                  </a:lnTo>
                  <a:lnTo>
                    <a:pt x="243" y="8"/>
                  </a:lnTo>
                  <a:lnTo>
                    <a:pt x="228" y="0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32200" y="5229360"/>
              <a:ext cx="506520" cy="401760"/>
            </a:xfrm>
            <a:custGeom>
              <a:avLst/>
              <a:gdLst/>
              <a:ahLst/>
              <a:rect l="l" t="t" r="r" b="b"/>
              <a:pathLst>
                <a:path w="623" h="521">
                  <a:moveTo>
                    <a:pt x="0" y="495"/>
                  </a:moveTo>
                  <a:lnTo>
                    <a:pt x="7" y="514"/>
                  </a:lnTo>
                  <a:lnTo>
                    <a:pt x="30" y="521"/>
                  </a:lnTo>
                  <a:lnTo>
                    <a:pt x="593" y="521"/>
                  </a:lnTo>
                  <a:lnTo>
                    <a:pt x="615" y="515"/>
                  </a:lnTo>
                  <a:lnTo>
                    <a:pt x="623" y="492"/>
                  </a:lnTo>
                  <a:lnTo>
                    <a:pt x="623" y="33"/>
                  </a:lnTo>
                  <a:lnTo>
                    <a:pt x="618" y="10"/>
                  </a:lnTo>
                  <a:lnTo>
                    <a:pt x="598" y="0"/>
                  </a:lnTo>
                  <a:lnTo>
                    <a:pt x="36" y="0"/>
                  </a:lnTo>
                  <a:lnTo>
                    <a:pt x="12" y="8"/>
                  </a:lnTo>
                  <a:lnTo>
                    <a:pt x="0" y="33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071440" y="5271120"/>
              <a:ext cx="435960" cy="309240"/>
            </a:xfrm>
            <a:custGeom>
              <a:avLst/>
              <a:gdLst/>
              <a:ahLst/>
              <a:rect l="l" t="t" r="r" b="b"/>
              <a:pathLst>
                <a:path w="537" h="401">
                  <a:moveTo>
                    <a:pt x="0" y="379"/>
                  </a:moveTo>
                  <a:lnTo>
                    <a:pt x="6" y="394"/>
                  </a:lnTo>
                  <a:lnTo>
                    <a:pt x="26" y="401"/>
                  </a:lnTo>
                  <a:lnTo>
                    <a:pt x="512" y="401"/>
                  </a:lnTo>
                  <a:lnTo>
                    <a:pt x="530" y="396"/>
                  </a:lnTo>
                  <a:lnTo>
                    <a:pt x="537" y="378"/>
                  </a:lnTo>
                  <a:lnTo>
                    <a:pt x="537" y="25"/>
                  </a:lnTo>
                  <a:lnTo>
                    <a:pt x="534" y="9"/>
                  </a:lnTo>
                  <a:lnTo>
                    <a:pt x="516" y="1"/>
                  </a:lnTo>
                  <a:lnTo>
                    <a:pt x="33" y="0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85840" y="5284800"/>
              <a:ext cx="409320" cy="279360"/>
            </a:xfrm>
            <a:custGeom>
              <a:avLst/>
              <a:gdLst/>
              <a:ahLst/>
              <a:rect l="l" t="t" r="r" b="b"/>
              <a:pathLst>
                <a:path w="504" h="362">
                  <a:moveTo>
                    <a:pt x="0" y="343"/>
                  </a:moveTo>
                  <a:lnTo>
                    <a:pt x="6" y="357"/>
                  </a:lnTo>
                  <a:lnTo>
                    <a:pt x="25" y="362"/>
                  </a:lnTo>
                  <a:lnTo>
                    <a:pt x="481" y="362"/>
                  </a:lnTo>
                  <a:lnTo>
                    <a:pt x="497" y="357"/>
                  </a:lnTo>
                  <a:lnTo>
                    <a:pt x="504" y="342"/>
                  </a:lnTo>
                  <a:lnTo>
                    <a:pt x="504" y="25"/>
                  </a:lnTo>
                  <a:lnTo>
                    <a:pt x="499" y="8"/>
                  </a:lnTo>
                  <a:lnTo>
                    <a:pt x="482" y="0"/>
                  </a:lnTo>
                  <a:lnTo>
                    <a:pt x="28" y="0"/>
                  </a:lnTo>
                  <a:lnTo>
                    <a:pt x="8" y="3"/>
                  </a:lnTo>
                  <a:lnTo>
                    <a:pt x="0" y="17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14920" y="571860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14920" y="5811120"/>
              <a:ext cx="2170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51600" y="571176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51600" y="581112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63680" y="5727960"/>
              <a:ext cx="170640" cy="46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86000" y="5755680"/>
              <a:ext cx="12636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249280" y="5744160"/>
              <a:ext cx="199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49280" y="5774040"/>
              <a:ext cx="1972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73200" y="5741640"/>
              <a:ext cx="68400" cy="324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908000" y="5859360"/>
              <a:ext cx="745920" cy="140760"/>
            </a:xfrm>
            <a:custGeom>
              <a:avLst/>
              <a:gdLst/>
              <a:ahLst/>
              <a:rect l="l" t="t" r="r" b="b"/>
              <a:pathLst>
                <a:path w="919" h="181">
                  <a:moveTo>
                    <a:pt x="94" y="0"/>
                  </a:moveTo>
                  <a:lnTo>
                    <a:pt x="96" y="0"/>
                  </a:lnTo>
                  <a:lnTo>
                    <a:pt x="841" y="0"/>
                  </a:lnTo>
                  <a:lnTo>
                    <a:pt x="919" y="181"/>
                  </a:lnTo>
                  <a:lnTo>
                    <a:pt x="0" y="18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08000" y="6000120"/>
              <a:ext cx="745920" cy="20880"/>
            </a:xfrm>
            <a:custGeom>
              <a:avLst/>
              <a:gdLst/>
              <a:ahLst/>
              <a:rect l="l" t="t" r="r" b="b"/>
              <a:pathLst>
                <a:path w="919" h="27">
                  <a:moveTo>
                    <a:pt x="0" y="0"/>
                  </a:moveTo>
                  <a:lnTo>
                    <a:pt x="919" y="0"/>
                  </a:lnTo>
                  <a:lnTo>
                    <a:pt x="895" y="27"/>
                  </a:lnTo>
                  <a:lnTo>
                    <a:pt x="2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98000" y="5870880"/>
              <a:ext cx="477720" cy="14040"/>
            </a:xfrm>
            <a:custGeom>
              <a:avLst/>
              <a:gdLst/>
              <a:ahLst/>
              <a:rect l="l" t="t" r="r" b="b"/>
              <a:pathLst>
                <a:path w="587" h="18">
                  <a:moveTo>
                    <a:pt x="5" y="0"/>
                  </a:moveTo>
                  <a:lnTo>
                    <a:pt x="0" y="18"/>
                  </a:lnTo>
                  <a:lnTo>
                    <a:pt x="587" y="18"/>
                  </a:lnTo>
                  <a:lnTo>
                    <a:pt x="57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59120" y="5891760"/>
              <a:ext cx="433800" cy="66960"/>
            </a:xfrm>
            <a:custGeom>
              <a:avLst/>
              <a:gdLst/>
              <a:ahLst/>
              <a:rect l="l" t="t" r="r" b="b"/>
              <a:pathLst>
                <a:path w="536" h="86">
                  <a:moveTo>
                    <a:pt x="45" y="0"/>
                  </a:moveTo>
                  <a:lnTo>
                    <a:pt x="530" y="0"/>
                  </a:lnTo>
                  <a:lnTo>
                    <a:pt x="536" y="86"/>
                  </a:lnTo>
                  <a:lnTo>
                    <a:pt x="485" y="85"/>
                  </a:lnTo>
                  <a:lnTo>
                    <a:pt x="485" y="75"/>
                  </a:lnTo>
                  <a:lnTo>
                    <a:pt x="457" y="75"/>
                  </a:lnTo>
                  <a:lnTo>
                    <a:pt x="456" y="85"/>
                  </a:lnTo>
                  <a:lnTo>
                    <a:pt x="98" y="85"/>
                  </a:lnTo>
                  <a:lnTo>
                    <a:pt x="100" y="75"/>
                  </a:lnTo>
                  <a:lnTo>
                    <a:pt x="68" y="76"/>
                  </a:lnTo>
                  <a:lnTo>
                    <a:pt x="64" y="85"/>
                  </a:lnTo>
                  <a:lnTo>
                    <a:pt x="0" y="8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0120" y="5891760"/>
              <a:ext cx="87840" cy="295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" y="0"/>
                  </a:moveTo>
                  <a:lnTo>
                    <a:pt x="0" y="0"/>
                  </a:lnTo>
                  <a:lnTo>
                    <a:pt x="5" y="40"/>
                  </a:lnTo>
                  <a:lnTo>
                    <a:pt x="109" y="40"/>
                  </a:lnTo>
                  <a:lnTo>
                    <a:pt x="9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05160" y="5926320"/>
              <a:ext cx="92160" cy="324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35" y="0"/>
                  </a:moveTo>
                  <a:lnTo>
                    <a:pt x="35" y="14"/>
                  </a:lnTo>
                  <a:lnTo>
                    <a:pt x="0" y="14"/>
                  </a:lnTo>
                  <a:lnTo>
                    <a:pt x="5" y="44"/>
                  </a:lnTo>
                  <a:lnTo>
                    <a:pt x="114" y="44"/>
                  </a:lnTo>
                  <a:lnTo>
                    <a:pt x="105" y="13"/>
                  </a:lnTo>
                  <a:lnTo>
                    <a:pt x="69" y="13"/>
                  </a:lnTo>
                  <a:lnTo>
                    <a:pt x="6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90480" y="5893920"/>
              <a:ext cx="131400" cy="64800"/>
            </a:xfrm>
            <a:custGeom>
              <a:avLst/>
              <a:gdLst/>
              <a:ahLst/>
              <a:rect l="l" t="t" r="r" b="b"/>
              <a:pathLst>
                <a:path w="163" h="85">
                  <a:moveTo>
                    <a:pt x="0" y="0"/>
                  </a:moveTo>
                  <a:lnTo>
                    <a:pt x="26" y="85"/>
                  </a:lnTo>
                  <a:lnTo>
                    <a:pt x="163" y="85"/>
                  </a:lnTo>
                  <a:lnTo>
                    <a:pt x="1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63600" y="5631120"/>
              <a:ext cx="248400" cy="39240"/>
            </a:xfrm>
            <a:prstGeom prst="roundRect">
              <a:avLst>
                <a:gd name="adj" fmla="val 238097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473200" y="5598720"/>
              <a:ext cx="34200" cy="1800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02760" y="5654160"/>
              <a:ext cx="372960" cy="2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02760" y="5679360"/>
              <a:ext cx="37008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0" name="" descr=""/>
          <p:cNvPicPr/>
          <p:nvPr/>
        </p:nvPicPr>
        <p:blipFill>
          <a:blip r:embed="rId5"/>
          <a:stretch/>
        </p:blipFill>
        <p:spPr>
          <a:xfrm>
            <a:off x="5435640" y="3284640"/>
            <a:ext cx="922320" cy="6080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92232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子网规划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41720" y="2598840"/>
            <a:ext cx="163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01.222.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68200" y="2979720"/>
            <a:ext cx="19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392640" y="3998880"/>
            <a:ext cx="968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41680" y="4054320"/>
            <a:ext cx="117360" cy="49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363840" y="4062240"/>
            <a:ext cx="117720" cy="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76600" y="4062240"/>
            <a:ext cx="13032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76600" y="4051440"/>
            <a:ext cx="12600" cy="2196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7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36840" y="4064040"/>
            <a:ext cx="1285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454560" y="4052880"/>
            <a:ext cx="10800" cy="22320"/>
          </a:xfrm>
          <a:custGeom>
            <a:avLst/>
            <a:gdLst/>
            <a:ahLst/>
            <a:rect l="l" t="t" r="r" b="b"/>
            <a:pathLst>
              <a:path w="29" h="54">
                <a:moveTo>
                  <a:pt x="0" y="54"/>
                </a:moveTo>
                <a:lnTo>
                  <a:pt x="29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21160" y="3984480"/>
            <a:ext cx="1440" cy="6192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10000" y="3984480"/>
            <a:ext cx="22320" cy="11160"/>
          </a:xfrm>
          <a:custGeom>
            <a:avLst/>
            <a:gdLst/>
            <a:ahLst/>
            <a:rect l="l" t="t" r="r" b="b"/>
            <a:pathLst>
              <a:path w="58" h="28">
                <a:moveTo>
                  <a:pt x="58" y="28"/>
                </a:moveTo>
                <a:lnTo>
                  <a:pt x="29" y="0"/>
                </a:lnTo>
                <a:lnTo>
                  <a:pt x="0" y="28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521160" y="4086360"/>
            <a:ext cx="1440" cy="568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352680" y="2181240"/>
            <a:ext cx="954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322800" y="2244240"/>
            <a:ext cx="118800" cy="27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37000" y="2244600"/>
            <a:ext cx="12996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37000" y="2233440"/>
            <a:ext cx="11160" cy="2232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95800" y="2246400"/>
            <a:ext cx="12996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81560" y="2166840"/>
            <a:ext cx="1440" cy="604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470400" y="2166840"/>
            <a:ext cx="21960" cy="11160"/>
          </a:xfrm>
          <a:custGeom>
            <a:avLst/>
            <a:gdLst/>
            <a:ahLst/>
            <a:rect l="l" t="t" r="r" b="b"/>
            <a:pathLst>
              <a:path w="58" h="28">
                <a:moveTo>
                  <a:pt x="58" y="28"/>
                </a:moveTo>
                <a:lnTo>
                  <a:pt x="29" y="0"/>
                </a:lnTo>
                <a:lnTo>
                  <a:pt x="0" y="28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93840" y="3618000"/>
            <a:ext cx="968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41440" y="3675240"/>
            <a:ext cx="119160" cy="4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263600" y="3681360"/>
            <a:ext cx="119160" cy="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77800" y="3681360"/>
            <a:ext cx="13032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7800" y="3670200"/>
            <a:ext cx="12960" cy="2232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236600" y="3683160"/>
            <a:ext cx="1303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355760" y="3672000"/>
            <a:ext cx="11160" cy="21960"/>
          </a:xfrm>
          <a:custGeom>
            <a:avLst/>
            <a:gdLst/>
            <a:ahLst/>
            <a:rect l="l" t="t" r="r" b="b"/>
            <a:pathLst>
              <a:path w="29" h="55">
                <a:moveTo>
                  <a:pt x="0" y="55"/>
                </a:moveTo>
                <a:lnTo>
                  <a:pt x="29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22360" y="3605040"/>
            <a:ext cx="1800" cy="590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11200" y="360504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58" y="27"/>
                </a:moveTo>
                <a:lnTo>
                  <a:pt x="29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11200" y="375120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0" y="0"/>
                </a:moveTo>
                <a:lnTo>
                  <a:pt x="29" y="27"/>
                </a:lnTo>
                <a:lnTo>
                  <a:pt x="58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390840" y="4824360"/>
            <a:ext cx="968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3362400" y="4887720"/>
            <a:ext cx="119160" cy="27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576600" y="4888080"/>
            <a:ext cx="1285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576600" y="4876920"/>
            <a:ext cx="11160" cy="21960"/>
          </a:xfrm>
          <a:custGeom>
            <a:avLst/>
            <a:gdLst/>
            <a:ahLst/>
            <a:rect l="l" t="t" r="r" b="b"/>
            <a:pathLst>
              <a:path w="31" h="55">
                <a:moveTo>
                  <a:pt x="31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35400" y="4889520"/>
            <a:ext cx="12996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52760" y="4878360"/>
            <a:ext cx="12600" cy="22320"/>
          </a:xfrm>
          <a:custGeom>
            <a:avLst/>
            <a:gdLst/>
            <a:ahLst/>
            <a:rect l="l" t="t" r="r" b="b"/>
            <a:pathLst>
              <a:path w="29" h="55">
                <a:moveTo>
                  <a:pt x="0" y="55"/>
                </a:moveTo>
                <a:lnTo>
                  <a:pt x="29" y="28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21160" y="4809960"/>
            <a:ext cx="1440" cy="604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08200" y="4809960"/>
            <a:ext cx="24120" cy="11160"/>
          </a:xfrm>
          <a:custGeom>
            <a:avLst/>
            <a:gdLst/>
            <a:ahLst/>
            <a:rect l="l" t="t" r="r" b="b"/>
            <a:pathLst>
              <a:path w="58" h="28">
                <a:moveTo>
                  <a:pt x="58" y="28"/>
                </a:moveTo>
                <a:lnTo>
                  <a:pt x="29" y="0"/>
                </a:lnTo>
                <a:lnTo>
                  <a:pt x="0" y="28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21160" y="4911840"/>
            <a:ext cx="1440" cy="568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78240" y="3071880"/>
            <a:ext cx="950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25840" y="3129120"/>
            <a:ext cx="119160" cy="48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348000" y="3135240"/>
            <a:ext cx="119160" cy="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62200" y="3135240"/>
            <a:ext cx="13032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62200" y="3124080"/>
            <a:ext cx="11160" cy="22320"/>
          </a:xfrm>
          <a:custGeom>
            <a:avLst/>
            <a:gdLst/>
            <a:ahLst/>
            <a:rect l="l" t="t" r="r" b="b"/>
            <a:pathLst>
              <a:path w="30" h="55">
                <a:moveTo>
                  <a:pt x="30" y="0"/>
                </a:moveTo>
                <a:lnTo>
                  <a:pt x="0" y="26"/>
                </a:lnTo>
                <a:lnTo>
                  <a:pt x="29" y="55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21000" y="3137040"/>
            <a:ext cx="13032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40160" y="3125880"/>
            <a:ext cx="11160" cy="21960"/>
          </a:xfrm>
          <a:custGeom>
            <a:avLst/>
            <a:gdLst/>
            <a:ahLst/>
            <a:rect l="l" t="t" r="r" b="b"/>
            <a:pathLst>
              <a:path w="29" h="55">
                <a:moveTo>
                  <a:pt x="0" y="55"/>
                </a:moveTo>
                <a:lnTo>
                  <a:pt x="29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06760" y="3059280"/>
            <a:ext cx="1440" cy="5868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495600" y="3059280"/>
            <a:ext cx="22320" cy="10800"/>
          </a:xfrm>
          <a:custGeom>
            <a:avLst/>
            <a:gdLst/>
            <a:ahLst/>
            <a:rect l="l" t="t" r="r" b="b"/>
            <a:pathLst>
              <a:path w="58" h="27">
                <a:moveTo>
                  <a:pt x="58" y="27"/>
                </a:moveTo>
                <a:lnTo>
                  <a:pt x="29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6760" y="3160800"/>
            <a:ext cx="1440" cy="55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495600" y="3205080"/>
            <a:ext cx="22320" cy="11160"/>
          </a:xfrm>
          <a:custGeom>
            <a:avLst/>
            <a:gdLst/>
            <a:ahLst/>
            <a:rect l="l" t="t" r="r" b="b"/>
            <a:pathLst>
              <a:path w="58" h="27">
                <a:moveTo>
                  <a:pt x="0" y="0"/>
                </a:moveTo>
                <a:lnTo>
                  <a:pt x="29" y="27"/>
                </a:lnTo>
                <a:lnTo>
                  <a:pt x="58" y="0"/>
                </a:lnTo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679400" y="3798720"/>
            <a:ext cx="6829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2361960" y="2344680"/>
            <a:ext cx="841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362320" y="3254400"/>
            <a:ext cx="868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62320" y="4211640"/>
            <a:ext cx="868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47560" y="4973760"/>
            <a:ext cx="896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884920" y="2903400"/>
            <a:ext cx="766440" cy="738000"/>
            <a:chOff x="5884920" y="2903400"/>
            <a:chExt cx="766440" cy="738000"/>
          </a:xfrm>
        </p:grpSpPr>
        <p:sp>
          <p:nvSpPr>
            <p:cNvPr id="948" name=""/>
            <p:cNvSpPr/>
            <p:nvPr/>
          </p:nvSpPr>
          <p:spPr>
            <a:xfrm>
              <a:off x="5996160" y="3333600"/>
              <a:ext cx="559440" cy="139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09480" y="3390840"/>
              <a:ext cx="84600" cy="1908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0" y="14"/>
                  </a:moveTo>
                  <a:lnTo>
                    <a:pt x="17" y="25"/>
                  </a:lnTo>
                  <a:lnTo>
                    <a:pt x="93" y="25"/>
                  </a:lnTo>
                  <a:lnTo>
                    <a:pt x="111" y="14"/>
                  </a:lnTo>
                  <a:lnTo>
                    <a:pt x="111" y="12"/>
                  </a:lnTo>
                  <a:lnTo>
                    <a:pt x="95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35200" y="3354120"/>
              <a:ext cx="204480" cy="101880"/>
            </a:xfrm>
            <a:custGeom>
              <a:avLst/>
              <a:gdLst/>
              <a:ahLst/>
              <a:rect l="l" t="t" r="r" b="b"/>
              <a:pathLst>
                <a:path w="270" h="128">
                  <a:moveTo>
                    <a:pt x="0" y="112"/>
                  </a:moveTo>
                  <a:lnTo>
                    <a:pt x="20" y="128"/>
                  </a:lnTo>
                  <a:lnTo>
                    <a:pt x="251" y="128"/>
                  </a:lnTo>
                  <a:lnTo>
                    <a:pt x="270" y="110"/>
                  </a:lnTo>
                  <a:lnTo>
                    <a:pt x="270" y="20"/>
                  </a:lnTo>
                  <a:lnTo>
                    <a:pt x="266" y="9"/>
                  </a:lnTo>
                  <a:lnTo>
                    <a:pt x="248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012000" y="2903400"/>
              <a:ext cx="520920" cy="374760"/>
            </a:xfrm>
            <a:custGeom>
              <a:avLst/>
              <a:gdLst/>
              <a:ahLst/>
              <a:rect l="l" t="t" r="r" b="b"/>
              <a:pathLst>
                <a:path w="686" h="474">
                  <a:moveTo>
                    <a:pt x="0" y="449"/>
                  </a:moveTo>
                  <a:lnTo>
                    <a:pt x="8" y="467"/>
                  </a:lnTo>
                  <a:lnTo>
                    <a:pt x="34" y="474"/>
                  </a:lnTo>
                  <a:lnTo>
                    <a:pt x="653" y="474"/>
                  </a:lnTo>
                  <a:lnTo>
                    <a:pt x="677" y="468"/>
                  </a:lnTo>
                  <a:lnTo>
                    <a:pt x="686" y="446"/>
                  </a:lnTo>
                  <a:lnTo>
                    <a:pt x="686" y="30"/>
                  </a:lnTo>
                  <a:lnTo>
                    <a:pt x="680" y="10"/>
                  </a:lnTo>
                  <a:lnTo>
                    <a:pt x="657" y="0"/>
                  </a:lnTo>
                  <a:lnTo>
                    <a:pt x="40" y="0"/>
                  </a:lnTo>
                  <a:lnTo>
                    <a:pt x="14" y="7"/>
                  </a:lnTo>
                  <a:lnTo>
                    <a:pt x="1" y="30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50880" y="2941560"/>
              <a:ext cx="447480" cy="288720"/>
            </a:xfrm>
            <a:custGeom>
              <a:avLst/>
              <a:gdLst/>
              <a:ahLst/>
              <a:rect l="l" t="t" r="r" b="b"/>
              <a:pathLst>
                <a:path w="591" h="363">
                  <a:moveTo>
                    <a:pt x="0" y="344"/>
                  </a:moveTo>
                  <a:lnTo>
                    <a:pt x="8" y="357"/>
                  </a:lnTo>
                  <a:lnTo>
                    <a:pt x="29" y="363"/>
                  </a:lnTo>
                  <a:lnTo>
                    <a:pt x="563" y="363"/>
                  </a:lnTo>
                  <a:lnTo>
                    <a:pt x="583" y="358"/>
                  </a:lnTo>
                  <a:lnTo>
                    <a:pt x="591" y="342"/>
                  </a:lnTo>
                  <a:lnTo>
                    <a:pt x="591" y="22"/>
                  </a:lnTo>
                  <a:lnTo>
                    <a:pt x="587" y="8"/>
                  </a:lnTo>
                  <a:lnTo>
                    <a:pt x="568" y="1"/>
                  </a:lnTo>
                  <a:lnTo>
                    <a:pt x="36" y="0"/>
                  </a:lnTo>
                  <a:lnTo>
                    <a:pt x="12" y="2"/>
                  </a:lnTo>
                  <a:lnTo>
                    <a:pt x="0" y="1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66720" y="2954160"/>
              <a:ext cx="420120" cy="262080"/>
            </a:xfrm>
            <a:custGeom>
              <a:avLst/>
              <a:gdLst/>
              <a:ahLst/>
              <a:rect l="l" t="t" r="r" b="b"/>
              <a:pathLst>
                <a:path w="553" h="329">
                  <a:moveTo>
                    <a:pt x="0" y="312"/>
                  </a:moveTo>
                  <a:lnTo>
                    <a:pt x="7" y="325"/>
                  </a:lnTo>
                  <a:lnTo>
                    <a:pt x="27" y="329"/>
                  </a:lnTo>
                  <a:lnTo>
                    <a:pt x="526" y="329"/>
                  </a:lnTo>
                  <a:lnTo>
                    <a:pt x="545" y="325"/>
                  </a:lnTo>
                  <a:lnTo>
                    <a:pt x="553" y="310"/>
                  </a:lnTo>
                  <a:lnTo>
                    <a:pt x="553" y="23"/>
                  </a:lnTo>
                  <a:lnTo>
                    <a:pt x="549" y="7"/>
                  </a:lnTo>
                  <a:lnTo>
                    <a:pt x="529" y="0"/>
                  </a:lnTo>
                  <a:lnTo>
                    <a:pt x="30" y="0"/>
                  </a:lnTo>
                  <a:lnTo>
                    <a:pt x="10" y="4"/>
                  </a:lnTo>
                  <a:lnTo>
                    <a:pt x="0" y="17"/>
                  </a:lnTo>
                  <a:lnTo>
                    <a:pt x="0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96160" y="3359160"/>
              <a:ext cx="2206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996160" y="3446280"/>
              <a:ext cx="2206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41840" y="3354120"/>
              <a:ext cx="115920" cy="5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41840" y="3446280"/>
              <a:ext cx="1137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248520" y="3368520"/>
              <a:ext cx="17712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71200" y="3394080"/>
              <a:ext cx="129960" cy="79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35200" y="3384360"/>
              <a:ext cx="204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35200" y="3411360"/>
              <a:ext cx="20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64520" y="3381120"/>
              <a:ext cx="70560" cy="30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84920" y="3492360"/>
              <a:ext cx="766440" cy="130320"/>
            </a:xfrm>
            <a:custGeom>
              <a:avLst/>
              <a:gdLst/>
              <a:ahLst/>
              <a:rect l="l" t="t" r="r" b="b"/>
              <a:pathLst>
                <a:path w="1010" h="165">
                  <a:moveTo>
                    <a:pt x="103" y="0"/>
                  </a:moveTo>
                  <a:lnTo>
                    <a:pt x="107" y="0"/>
                  </a:lnTo>
                  <a:lnTo>
                    <a:pt x="927" y="0"/>
                  </a:lnTo>
                  <a:lnTo>
                    <a:pt x="1010" y="165"/>
                  </a:lnTo>
                  <a:lnTo>
                    <a:pt x="0" y="164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84920" y="3622680"/>
              <a:ext cx="766440" cy="18720"/>
            </a:xfrm>
            <a:custGeom>
              <a:avLst/>
              <a:gdLst/>
              <a:ahLst/>
              <a:rect l="l" t="t" r="r" b="b"/>
              <a:pathLst>
                <a:path w="1011" h="25">
                  <a:moveTo>
                    <a:pt x="0" y="0"/>
                  </a:moveTo>
                  <a:lnTo>
                    <a:pt x="1011" y="1"/>
                  </a:lnTo>
                  <a:lnTo>
                    <a:pt x="985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978160" y="3503520"/>
              <a:ext cx="488880" cy="11160"/>
            </a:xfrm>
            <a:custGeom>
              <a:avLst/>
              <a:gdLst/>
              <a:ahLst/>
              <a:rect l="l" t="t" r="r" b="b"/>
              <a:pathLst>
                <a:path w="644" h="15">
                  <a:moveTo>
                    <a:pt x="5" y="0"/>
                  </a:moveTo>
                  <a:lnTo>
                    <a:pt x="0" y="15"/>
                  </a:lnTo>
                  <a:lnTo>
                    <a:pt x="644" y="15"/>
                  </a:lnTo>
                  <a:lnTo>
                    <a:pt x="63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936760" y="3522600"/>
              <a:ext cx="448200" cy="61920"/>
            </a:xfrm>
            <a:custGeom>
              <a:avLst/>
              <a:gdLst/>
              <a:ahLst/>
              <a:rect l="l" t="t" r="r" b="b"/>
              <a:pathLst>
                <a:path w="590" h="79">
                  <a:moveTo>
                    <a:pt x="49" y="0"/>
                  </a:moveTo>
                  <a:lnTo>
                    <a:pt x="583" y="0"/>
                  </a:lnTo>
                  <a:lnTo>
                    <a:pt x="590" y="79"/>
                  </a:lnTo>
                  <a:lnTo>
                    <a:pt x="533" y="78"/>
                  </a:lnTo>
                  <a:lnTo>
                    <a:pt x="533" y="69"/>
                  </a:lnTo>
                  <a:lnTo>
                    <a:pt x="502" y="69"/>
                  </a:lnTo>
                  <a:lnTo>
                    <a:pt x="499" y="78"/>
                  </a:lnTo>
                  <a:lnTo>
                    <a:pt x="107" y="78"/>
                  </a:lnTo>
                  <a:lnTo>
                    <a:pt x="110" y="69"/>
                  </a:lnTo>
                  <a:lnTo>
                    <a:pt x="74" y="70"/>
                  </a:lnTo>
                  <a:lnTo>
                    <a:pt x="69" y="78"/>
                  </a:lnTo>
                  <a:lnTo>
                    <a:pt x="0" y="7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89640" y="3522600"/>
              <a:ext cx="88560" cy="2700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1" y="0"/>
                  </a:moveTo>
                  <a:lnTo>
                    <a:pt x="0" y="0"/>
                  </a:lnTo>
                  <a:lnTo>
                    <a:pt x="6" y="36"/>
                  </a:lnTo>
                  <a:lnTo>
                    <a:pt x="119" y="36"/>
                  </a:lnTo>
                  <a:lnTo>
                    <a:pt x="10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94320" y="3554280"/>
              <a:ext cx="95400" cy="31680"/>
            </a:xfrm>
            <a:custGeom>
              <a:avLst/>
              <a:gdLst/>
              <a:ahLst/>
              <a:rect l="l" t="t" r="r" b="b"/>
              <a:pathLst>
                <a:path w="126" h="41">
                  <a:moveTo>
                    <a:pt x="39" y="0"/>
                  </a:moveTo>
                  <a:lnTo>
                    <a:pt x="39" y="13"/>
                  </a:lnTo>
                  <a:lnTo>
                    <a:pt x="0" y="13"/>
                  </a:lnTo>
                  <a:lnTo>
                    <a:pt x="6" y="41"/>
                  </a:lnTo>
                  <a:lnTo>
                    <a:pt x="126" y="41"/>
                  </a:lnTo>
                  <a:lnTo>
                    <a:pt x="115" y="12"/>
                  </a:lnTo>
                  <a:lnTo>
                    <a:pt x="77" y="12"/>
                  </a:lnTo>
                  <a:lnTo>
                    <a:pt x="77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3240" y="3524040"/>
              <a:ext cx="133920" cy="61920"/>
            </a:xfrm>
            <a:custGeom>
              <a:avLst/>
              <a:gdLst/>
              <a:ahLst/>
              <a:rect l="l" t="t" r="r" b="b"/>
              <a:pathLst>
                <a:path w="179" h="78">
                  <a:moveTo>
                    <a:pt x="0" y="0"/>
                  </a:moveTo>
                  <a:lnTo>
                    <a:pt x="28" y="78"/>
                  </a:lnTo>
                  <a:lnTo>
                    <a:pt x="179" y="78"/>
                  </a:ln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46280" y="3278160"/>
              <a:ext cx="256680" cy="36360"/>
            </a:xfrm>
            <a:prstGeom prst="roundRect">
              <a:avLst>
                <a:gd name="adj" fmla="val 250000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467040" y="3246120"/>
              <a:ext cx="31320" cy="190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085080" y="3298680"/>
              <a:ext cx="381960" cy="28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85080" y="3324240"/>
              <a:ext cx="381960" cy="79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5884920" y="2027160"/>
            <a:ext cx="739440" cy="739800"/>
            <a:chOff x="5884920" y="2027160"/>
            <a:chExt cx="739440" cy="739800"/>
          </a:xfrm>
        </p:grpSpPr>
        <p:sp>
          <p:nvSpPr>
            <p:cNvPr id="975" name=""/>
            <p:cNvSpPr/>
            <p:nvPr/>
          </p:nvSpPr>
          <p:spPr>
            <a:xfrm>
              <a:off x="5992200" y="2457360"/>
              <a:ext cx="541800" cy="139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05160" y="2514600"/>
              <a:ext cx="81360" cy="1908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0" y="13"/>
                  </a:moveTo>
                  <a:lnTo>
                    <a:pt x="18" y="25"/>
                  </a:lnTo>
                  <a:lnTo>
                    <a:pt x="94" y="25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95" y="0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222600" y="2478240"/>
              <a:ext cx="197280" cy="101520"/>
            </a:xfrm>
            <a:custGeom>
              <a:avLst/>
              <a:gdLst/>
              <a:ahLst/>
              <a:rect l="l" t="t" r="r" b="b"/>
              <a:pathLst>
                <a:path w="271" h="128">
                  <a:moveTo>
                    <a:pt x="0" y="111"/>
                  </a:moveTo>
                  <a:lnTo>
                    <a:pt x="20" y="128"/>
                  </a:lnTo>
                  <a:lnTo>
                    <a:pt x="252" y="128"/>
                  </a:lnTo>
                  <a:lnTo>
                    <a:pt x="271" y="110"/>
                  </a:lnTo>
                  <a:lnTo>
                    <a:pt x="271" y="20"/>
                  </a:lnTo>
                  <a:lnTo>
                    <a:pt x="266" y="8"/>
                  </a:lnTo>
                  <a:lnTo>
                    <a:pt x="249" y="0"/>
                  </a:lnTo>
                  <a:lnTo>
                    <a:pt x="20" y="0"/>
                  </a:lnTo>
                  <a:lnTo>
                    <a:pt x="0" y="1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07680" y="2027160"/>
              <a:ext cx="502560" cy="376200"/>
            </a:xfrm>
            <a:custGeom>
              <a:avLst/>
              <a:gdLst/>
              <a:ahLst/>
              <a:rect l="l" t="t" r="r" b="b"/>
              <a:pathLst>
                <a:path w="686" h="473">
                  <a:moveTo>
                    <a:pt x="0" y="448"/>
                  </a:moveTo>
                  <a:lnTo>
                    <a:pt x="9" y="466"/>
                  </a:lnTo>
                  <a:lnTo>
                    <a:pt x="35" y="473"/>
                  </a:lnTo>
                  <a:lnTo>
                    <a:pt x="653" y="473"/>
                  </a:lnTo>
                  <a:lnTo>
                    <a:pt x="678" y="467"/>
                  </a:lnTo>
                  <a:lnTo>
                    <a:pt x="686" y="446"/>
                  </a:lnTo>
                  <a:lnTo>
                    <a:pt x="686" y="29"/>
                  </a:lnTo>
                  <a:lnTo>
                    <a:pt x="681" y="9"/>
                  </a:lnTo>
                  <a:lnTo>
                    <a:pt x="658" y="0"/>
                  </a:lnTo>
                  <a:lnTo>
                    <a:pt x="41" y="0"/>
                  </a:lnTo>
                  <a:lnTo>
                    <a:pt x="15" y="7"/>
                  </a:lnTo>
                  <a:lnTo>
                    <a:pt x="2" y="29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46920" y="2065320"/>
              <a:ext cx="432360" cy="289080"/>
            </a:xfrm>
            <a:custGeom>
              <a:avLst/>
              <a:gdLst/>
              <a:ahLst/>
              <a:rect l="l" t="t" r="r" b="b"/>
              <a:pathLst>
                <a:path w="591" h="364">
                  <a:moveTo>
                    <a:pt x="0" y="345"/>
                  </a:moveTo>
                  <a:lnTo>
                    <a:pt x="7" y="358"/>
                  </a:lnTo>
                  <a:lnTo>
                    <a:pt x="29" y="364"/>
                  </a:lnTo>
                  <a:lnTo>
                    <a:pt x="562" y="364"/>
                  </a:lnTo>
                  <a:lnTo>
                    <a:pt x="583" y="359"/>
                  </a:lnTo>
                  <a:lnTo>
                    <a:pt x="591" y="342"/>
                  </a:lnTo>
                  <a:lnTo>
                    <a:pt x="591" y="23"/>
                  </a:lnTo>
                  <a:lnTo>
                    <a:pt x="587" y="8"/>
                  </a:lnTo>
                  <a:lnTo>
                    <a:pt x="568" y="1"/>
                  </a:lnTo>
                  <a:lnTo>
                    <a:pt x="36" y="0"/>
                  </a:lnTo>
                  <a:lnTo>
                    <a:pt x="12" y="3"/>
                  </a:lnTo>
                  <a:lnTo>
                    <a:pt x="0" y="17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60600" y="2077920"/>
              <a:ext cx="405360" cy="262080"/>
            </a:xfrm>
            <a:custGeom>
              <a:avLst/>
              <a:gdLst/>
              <a:ahLst/>
              <a:rect l="l" t="t" r="r" b="b"/>
              <a:pathLst>
                <a:path w="554" h="329">
                  <a:moveTo>
                    <a:pt x="0" y="311"/>
                  </a:moveTo>
                  <a:lnTo>
                    <a:pt x="7" y="324"/>
                  </a:lnTo>
                  <a:lnTo>
                    <a:pt x="28" y="329"/>
                  </a:lnTo>
                  <a:lnTo>
                    <a:pt x="527" y="329"/>
                  </a:lnTo>
                  <a:lnTo>
                    <a:pt x="545" y="324"/>
                  </a:lnTo>
                  <a:lnTo>
                    <a:pt x="554" y="310"/>
                  </a:lnTo>
                  <a:lnTo>
                    <a:pt x="554" y="22"/>
                  </a:lnTo>
                  <a:lnTo>
                    <a:pt x="550" y="7"/>
                  </a:lnTo>
                  <a:lnTo>
                    <a:pt x="529" y="0"/>
                  </a:lnTo>
                  <a:lnTo>
                    <a:pt x="30" y="0"/>
                  </a:lnTo>
                  <a:lnTo>
                    <a:pt x="10" y="3"/>
                  </a:lnTo>
                  <a:lnTo>
                    <a:pt x="0" y="16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92200" y="2482920"/>
              <a:ext cx="21276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92200" y="2570040"/>
              <a:ext cx="2127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422400" y="2478240"/>
              <a:ext cx="11196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22400" y="2570040"/>
              <a:ext cx="11196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235560" y="2492280"/>
              <a:ext cx="171000" cy="64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260040" y="2517840"/>
              <a:ext cx="124920" cy="79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22600" y="2508120"/>
              <a:ext cx="19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22600" y="2535120"/>
              <a:ext cx="194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444360" y="2506680"/>
              <a:ext cx="68040" cy="30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884920" y="2616120"/>
              <a:ext cx="739440" cy="131760"/>
            </a:xfrm>
            <a:custGeom>
              <a:avLst/>
              <a:gdLst/>
              <a:ahLst/>
              <a:rect l="l" t="t" r="r" b="b"/>
              <a:pathLst>
                <a:path w="1010" h="164">
                  <a:moveTo>
                    <a:pt x="102" y="0"/>
                  </a:moveTo>
                  <a:lnTo>
                    <a:pt x="106" y="0"/>
                  </a:lnTo>
                  <a:lnTo>
                    <a:pt x="926" y="0"/>
                  </a:lnTo>
                  <a:lnTo>
                    <a:pt x="1010" y="164"/>
                  </a:lnTo>
                  <a:lnTo>
                    <a:pt x="0" y="16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84920" y="2746440"/>
              <a:ext cx="739440" cy="20520"/>
            </a:xfrm>
            <a:custGeom>
              <a:avLst/>
              <a:gdLst/>
              <a:ahLst/>
              <a:rect l="l" t="t" r="r" b="b"/>
              <a:pathLst>
                <a:path w="1011" h="25">
                  <a:moveTo>
                    <a:pt x="0" y="0"/>
                  </a:moveTo>
                  <a:lnTo>
                    <a:pt x="1011" y="1"/>
                  </a:lnTo>
                  <a:lnTo>
                    <a:pt x="985" y="25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74920" y="2627280"/>
              <a:ext cx="471600" cy="12600"/>
            </a:xfrm>
            <a:custGeom>
              <a:avLst/>
              <a:gdLst/>
              <a:ahLst/>
              <a:rect l="l" t="t" r="r" b="b"/>
              <a:pathLst>
                <a:path w="645" h="15">
                  <a:moveTo>
                    <a:pt x="6" y="0"/>
                  </a:moveTo>
                  <a:lnTo>
                    <a:pt x="0" y="15"/>
                  </a:lnTo>
                  <a:lnTo>
                    <a:pt x="645" y="15"/>
                  </a:lnTo>
                  <a:lnTo>
                    <a:pt x="63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34960" y="2646360"/>
              <a:ext cx="432360" cy="61920"/>
            </a:xfrm>
            <a:custGeom>
              <a:avLst/>
              <a:gdLst/>
              <a:ahLst/>
              <a:rect l="l" t="t" r="r" b="b"/>
              <a:pathLst>
                <a:path w="590" h="79">
                  <a:moveTo>
                    <a:pt x="49" y="0"/>
                  </a:moveTo>
                  <a:lnTo>
                    <a:pt x="583" y="0"/>
                  </a:lnTo>
                  <a:lnTo>
                    <a:pt x="590" y="79"/>
                  </a:lnTo>
                  <a:lnTo>
                    <a:pt x="532" y="78"/>
                  </a:lnTo>
                  <a:lnTo>
                    <a:pt x="532" y="68"/>
                  </a:lnTo>
                  <a:lnTo>
                    <a:pt x="502" y="68"/>
                  </a:lnTo>
                  <a:lnTo>
                    <a:pt x="499" y="78"/>
                  </a:lnTo>
                  <a:lnTo>
                    <a:pt x="107" y="78"/>
                  </a:lnTo>
                  <a:lnTo>
                    <a:pt x="109" y="68"/>
                  </a:lnTo>
                  <a:lnTo>
                    <a:pt x="73" y="69"/>
                  </a:lnTo>
                  <a:lnTo>
                    <a:pt x="69" y="78"/>
                  </a:lnTo>
                  <a:lnTo>
                    <a:pt x="0" y="7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72000" y="2646360"/>
              <a:ext cx="87480" cy="2844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2" y="0"/>
                  </a:moveTo>
                  <a:lnTo>
                    <a:pt x="0" y="0"/>
                  </a:lnTo>
                  <a:lnTo>
                    <a:pt x="6" y="35"/>
                  </a:lnTo>
                  <a:lnTo>
                    <a:pt x="120" y="35"/>
                  </a:lnTo>
                  <a:lnTo>
                    <a:pt x="11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78480" y="2678040"/>
              <a:ext cx="90000" cy="31680"/>
            </a:xfrm>
            <a:custGeom>
              <a:avLst/>
              <a:gdLst/>
              <a:ahLst/>
              <a:rect l="l" t="t" r="r" b="b"/>
              <a:pathLst>
                <a:path w="125" h="40">
                  <a:moveTo>
                    <a:pt x="39" y="0"/>
                  </a:moveTo>
                  <a:lnTo>
                    <a:pt x="39" y="13"/>
                  </a:lnTo>
                  <a:lnTo>
                    <a:pt x="0" y="13"/>
                  </a:lnTo>
                  <a:lnTo>
                    <a:pt x="6" y="40"/>
                  </a:lnTo>
                  <a:lnTo>
                    <a:pt x="125" y="40"/>
                  </a:lnTo>
                  <a:lnTo>
                    <a:pt x="115" y="12"/>
                  </a:lnTo>
                  <a:lnTo>
                    <a:pt x="76" y="12"/>
                  </a:lnTo>
                  <a:lnTo>
                    <a:pt x="76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462000" y="2647800"/>
              <a:ext cx="129240" cy="61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0"/>
                  </a:moveTo>
                  <a:lnTo>
                    <a:pt x="27" y="78"/>
                  </a:lnTo>
                  <a:lnTo>
                    <a:pt x="178" y="78"/>
                  </a:lnTo>
                  <a:lnTo>
                    <a:pt x="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137280" y="2401920"/>
              <a:ext cx="250200" cy="38160"/>
            </a:xfrm>
            <a:prstGeom prst="roundRect">
              <a:avLst>
                <a:gd name="adj" fmla="val 250000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446880" y="2370240"/>
              <a:ext cx="32760" cy="190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79680" y="2424240"/>
              <a:ext cx="366840" cy="27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79680" y="2449440"/>
              <a:ext cx="366840" cy="64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5884920" y="3794040"/>
            <a:ext cx="752040" cy="739800"/>
            <a:chOff x="5884920" y="3794040"/>
            <a:chExt cx="752040" cy="739800"/>
          </a:xfrm>
        </p:grpSpPr>
        <p:sp>
          <p:nvSpPr>
            <p:cNvPr id="1002" name=""/>
            <p:cNvSpPr/>
            <p:nvPr/>
          </p:nvSpPr>
          <p:spPr>
            <a:xfrm>
              <a:off x="5991840" y="4224240"/>
              <a:ext cx="552960" cy="1414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07680" y="4282920"/>
              <a:ext cx="82440" cy="1908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0" y="13"/>
                  </a:moveTo>
                  <a:lnTo>
                    <a:pt x="17" y="25"/>
                  </a:lnTo>
                  <a:lnTo>
                    <a:pt x="93" y="25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95" y="0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226920" y="4246560"/>
              <a:ext cx="201600" cy="100080"/>
            </a:xfrm>
            <a:custGeom>
              <a:avLst/>
              <a:gdLst/>
              <a:ahLst/>
              <a:rect l="l" t="t" r="r" b="b"/>
              <a:pathLst>
                <a:path w="270" h="128">
                  <a:moveTo>
                    <a:pt x="0" y="111"/>
                  </a:moveTo>
                  <a:lnTo>
                    <a:pt x="20" y="128"/>
                  </a:lnTo>
                  <a:lnTo>
                    <a:pt x="251" y="128"/>
                  </a:lnTo>
                  <a:lnTo>
                    <a:pt x="270" y="110"/>
                  </a:lnTo>
                  <a:lnTo>
                    <a:pt x="270" y="20"/>
                  </a:lnTo>
                  <a:lnTo>
                    <a:pt x="266" y="8"/>
                  </a:lnTo>
                  <a:lnTo>
                    <a:pt x="248" y="0"/>
                  </a:lnTo>
                  <a:lnTo>
                    <a:pt x="20" y="0"/>
                  </a:lnTo>
                  <a:lnTo>
                    <a:pt x="0" y="1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009840" y="3794040"/>
              <a:ext cx="510840" cy="376200"/>
            </a:xfrm>
            <a:custGeom>
              <a:avLst/>
              <a:gdLst/>
              <a:ahLst/>
              <a:rect l="l" t="t" r="r" b="b"/>
              <a:pathLst>
                <a:path w="686" h="473">
                  <a:moveTo>
                    <a:pt x="0" y="448"/>
                  </a:moveTo>
                  <a:lnTo>
                    <a:pt x="8" y="466"/>
                  </a:lnTo>
                  <a:lnTo>
                    <a:pt x="34" y="473"/>
                  </a:lnTo>
                  <a:lnTo>
                    <a:pt x="653" y="473"/>
                  </a:lnTo>
                  <a:lnTo>
                    <a:pt x="677" y="467"/>
                  </a:lnTo>
                  <a:lnTo>
                    <a:pt x="686" y="446"/>
                  </a:lnTo>
                  <a:lnTo>
                    <a:pt x="686" y="30"/>
                  </a:lnTo>
                  <a:lnTo>
                    <a:pt x="680" y="9"/>
                  </a:lnTo>
                  <a:lnTo>
                    <a:pt x="657" y="0"/>
                  </a:lnTo>
                  <a:lnTo>
                    <a:pt x="40" y="0"/>
                  </a:lnTo>
                  <a:lnTo>
                    <a:pt x="14" y="7"/>
                  </a:lnTo>
                  <a:lnTo>
                    <a:pt x="1" y="30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47640" y="3833640"/>
              <a:ext cx="441360" cy="287640"/>
            </a:xfrm>
            <a:custGeom>
              <a:avLst/>
              <a:gdLst/>
              <a:ahLst/>
              <a:rect l="l" t="t" r="r" b="b"/>
              <a:pathLst>
                <a:path w="591" h="364">
                  <a:moveTo>
                    <a:pt x="0" y="345"/>
                  </a:moveTo>
                  <a:lnTo>
                    <a:pt x="7" y="358"/>
                  </a:lnTo>
                  <a:lnTo>
                    <a:pt x="28" y="364"/>
                  </a:lnTo>
                  <a:lnTo>
                    <a:pt x="562" y="364"/>
                  </a:lnTo>
                  <a:lnTo>
                    <a:pt x="582" y="359"/>
                  </a:lnTo>
                  <a:lnTo>
                    <a:pt x="591" y="343"/>
                  </a:lnTo>
                  <a:lnTo>
                    <a:pt x="591" y="23"/>
                  </a:lnTo>
                  <a:lnTo>
                    <a:pt x="586" y="9"/>
                  </a:lnTo>
                  <a:lnTo>
                    <a:pt x="568" y="2"/>
                  </a:lnTo>
                  <a:lnTo>
                    <a:pt x="35" y="0"/>
                  </a:lnTo>
                  <a:lnTo>
                    <a:pt x="11" y="3"/>
                  </a:lnTo>
                  <a:lnTo>
                    <a:pt x="0" y="17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063480" y="3846600"/>
              <a:ext cx="412200" cy="261720"/>
            </a:xfrm>
            <a:custGeom>
              <a:avLst/>
              <a:gdLst/>
              <a:ahLst/>
              <a:rect l="l" t="t" r="r" b="b"/>
              <a:pathLst>
                <a:path w="553" h="329">
                  <a:moveTo>
                    <a:pt x="0" y="311"/>
                  </a:moveTo>
                  <a:lnTo>
                    <a:pt x="7" y="324"/>
                  </a:lnTo>
                  <a:lnTo>
                    <a:pt x="27" y="329"/>
                  </a:lnTo>
                  <a:lnTo>
                    <a:pt x="526" y="329"/>
                  </a:lnTo>
                  <a:lnTo>
                    <a:pt x="545" y="324"/>
                  </a:lnTo>
                  <a:lnTo>
                    <a:pt x="553" y="310"/>
                  </a:lnTo>
                  <a:lnTo>
                    <a:pt x="553" y="23"/>
                  </a:lnTo>
                  <a:lnTo>
                    <a:pt x="549" y="7"/>
                  </a:lnTo>
                  <a:lnTo>
                    <a:pt x="529" y="0"/>
                  </a:lnTo>
                  <a:lnTo>
                    <a:pt x="30" y="0"/>
                  </a:lnTo>
                  <a:lnTo>
                    <a:pt x="10" y="4"/>
                  </a:lnTo>
                  <a:lnTo>
                    <a:pt x="0" y="17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1840" y="4251240"/>
              <a:ext cx="21708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91840" y="4338720"/>
              <a:ext cx="217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431400" y="4246560"/>
              <a:ext cx="11376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31400" y="4338720"/>
              <a:ext cx="11376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242760" y="4260960"/>
              <a:ext cx="172440" cy="61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65080" y="4286160"/>
              <a:ext cx="127800" cy="79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26920" y="4276800"/>
              <a:ext cx="20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26920" y="4303800"/>
              <a:ext cx="20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53720" y="4273560"/>
              <a:ext cx="68760" cy="30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84920" y="4384800"/>
              <a:ext cx="752040" cy="129960"/>
            </a:xfrm>
            <a:custGeom>
              <a:avLst/>
              <a:gdLst/>
              <a:ahLst/>
              <a:rect l="l" t="t" r="r" b="b"/>
              <a:pathLst>
                <a:path w="1009" h="165">
                  <a:moveTo>
                    <a:pt x="102" y="0"/>
                  </a:moveTo>
                  <a:lnTo>
                    <a:pt x="106" y="0"/>
                  </a:lnTo>
                  <a:lnTo>
                    <a:pt x="926" y="0"/>
                  </a:lnTo>
                  <a:lnTo>
                    <a:pt x="1009" y="165"/>
                  </a:lnTo>
                  <a:lnTo>
                    <a:pt x="0" y="16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84920" y="4514760"/>
              <a:ext cx="752040" cy="19080"/>
            </a:xfrm>
            <a:custGeom>
              <a:avLst/>
              <a:gdLst/>
              <a:ahLst/>
              <a:rect l="l" t="t" r="r" b="b"/>
              <a:pathLst>
                <a:path w="1010" h="25">
                  <a:moveTo>
                    <a:pt x="0" y="0"/>
                  </a:moveTo>
                  <a:lnTo>
                    <a:pt x="1010" y="2"/>
                  </a:lnTo>
                  <a:lnTo>
                    <a:pt x="985" y="25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74200" y="4395600"/>
              <a:ext cx="481320" cy="11160"/>
            </a:xfrm>
            <a:custGeom>
              <a:avLst/>
              <a:gdLst/>
              <a:ahLst/>
              <a:rect l="l" t="t" r="r" b="b"/>
              <a:pathLst>
                <a:path w="644" h="16">
                  <a:moveTo>
                    <a:pt x="6" y="0"/>
                  </a:moveTo>
                  <a:lnTo>
                    <a:pt x="0" y="16"/>
                  </a:lnTo>
                  <a:lnTo>
                    <a:pt x="644" y="16"/>
                  </a:lnTo>
                  <a:lnTo>
                    <a:pt x="63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36040" y="4413240"/>
              <a:ext cx="438840" cy="63360"/>
            </a:xfrm>
            <a:custGeom>
              <a:avLst/>
              <a:gdLst/>
              <a:ahLst/>
              <a:rect l="l" t="t" r="r" b="b"/>
              <a:pathLst>
                <a:path w="589" h="79">
                  <a:moveTo>
                    <a:pt x="48" y="0"/>
                  </a:moveTo>
                  <a:lnTo>
                    <a:pt x="582" y="0"/>
                  </a:lnTo>
                  <a:lnTo>
                    <a:pt x="589" y="79"/>
                  </a:lnTo>
                  <a:lnTo>
                    <a:pt x="532" y="78"/>
                  </a:lnTo>
                  <a:lnTo>
                    <a:pt x="532" y="69"/>
                  </a:lnTo>
                  <a:lnTo>
                    <a:pt x="501" y="69"/>
                  </a:lnTo>
                  <a:lnTo>
                    <a:pt x="499" y="78"/>
                  </a:lnTo>
                  <a:lnTo>
                    <a:pt x="106" y="78"/>
                  </a:lnTo>
                  <a:lnTo>
                    <a:pt x="109" y="69"/>
                  </a:lnTo>
                  <a:lnTo>
                    <a:pt x="73" y="70"/>
                  </a:lnTo>
                  <a:lnTo>
                    <a:pt x="69" y="78"/>
                  </a:lnTo>
                  <a:lnTo>
                    <a:pt x="0" y="7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79560" y="4413240"/>
              <a:ext cx="89280" cy="2844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" y="0"/>
                  </a:moveTo>
                  <a:lnTo>
                    <a:pt x="0" y="0"/>
                  </a:lnTo>
                  <a:lnTo>
                    <a:pt x="6" y="35"/>
                  </a:lnTo>
                  <a:lnTo>
                    <a:pt x="119" y="35"/>
                  </a:lnTo>
                  <a:lnTo>
                    <a:pt x="10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386040" y="4446720"/>
              <a:ext cx="94320" cy="31680"/>
            </a:xfrm>
            <a:custGeom>
              <a:avLst/>
              <a:gdLst/>
              <a:ahLst/>
              <a:rect l="l" t="t" r="r" b="b"/>
              <a:pathLst>
                <a:path w="125" h="40">
                  <a:moveTo>
                    <a:pt x="38" y="0"/>
                  </a:moveTo>
                  <a:lnTo>
                    <a:pt x="38" y="13"/>
                  </a:lnTo>
                  <a:lnTo>
                    <a:pt x="0" y="13"/>
                  </a:lnTo>
                  <a:lnTo>
                    <a:pt x="5" y="40"/>
                  </a:lnTo>
                  <a:lnTo>
                    <a:pt x="125" y="40"/>
                  </a:lnTo>
                  <a:lnTo>
                    <a:pt x="115" y="12"/>
                  </a:lnTo>
                  <a:lnTo>
                    <a:pt x="76" y="12"/>
                  </a:lnTo>
                  <a:lnTo>
                    <a:pt x="76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1360" y="4416480"/>
              <a:ext cx="133920" cy="61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0"/>
                  </a:moveTo>
                  <a:lnTo>
                    <a:pt x="27" y="78"/>
                  </a:lnTo>
                  <a:lnTo>
                    <a:pt x="178" y="78"/>
                  </a:lnTo>
                  <a:lnTo>
                    <a:pt x="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42320" y="4170240"/>
              <a:ext cx="252720" cy="36720"/>
            </a:xfrm>
            <a:prstGeom prst="roundRect">
              <a:avLst>
                <a:gd name="adj" fmla="val 250000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55520" y="4138560"/>
              <a:ext cx="33480" cy="190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81840" y="4191120"/>
              <a:ext cx="373680" cy="28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81840" y="4216320"/>
              <a:ext cx="373680" cy="79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5884920" y="4672080"/>
            <a:ext cx="753480" cy="738000"/>
            <a:chOff x="5884920" y="4672080"/>
            <a:chExt cx="753480" cy="738000"/>
          </a:xfrm>
        </p:grpSpPr>
        <p:sp>
          <p:nvSpPr>
            <p:cNvPr id="1029" name=""/>
            <p:cNvSpPr/>
            <p:nvPr/>
          </p:nvSpPr>
          <p:spPr>
            <a:xfrm>
              <a:off x="5991840" y="5102280"/>
              <a:ext cx="552240" cy="139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07320" y="5159520"/>
              <a:ext cx="82440" cy="1872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0" y="13"/>
                  </a:moveTo>
                  <a:lnTo>
                    <a:pt x="18" y="25"/>
                  </a:lnTo>
                  <a:lnTo>
                    <a:pt x="94" y="25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95" y="0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6560" y="5122800"/>
              <a:ext cx="203760" cy="101520"/>
            </a:xfrm>
            <a:custGeom>
              <a:avLst/>
              <a:gdLst/>
              <a:ahLst/>
              <a:rect l="l" t="t" r="r" b="b"/>
              <a:pathLst>
                <a:path w="271" h="128">
                  <a:moveTo>
                    <a:pt x="0" y="111"/>
                  </a:moveTo>
                  <a:lnTo>
                    <a:pt x="20" y="128"/>
                  </a:lnTo>
                  <a:lnTo>
                    <a:pt x="252" y="128"/>
                  </a:lnTo>
                  <a:lnTo>
                    <a:pt x="271" y="110"/>
                  </a:lnTo>
                  <a:lnTo>
                    <a:pt x="271" y="20"/>
                  </a:lnTo>
                  <a:lnTo>
                    <a:pt x="266" y="8"/>
                  </a:lnTo>
                  <a:lnTo>
                    <a:pt x="249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09480" y="4672080"/>
              <a:ext cx="511920" cy="374400"/>
            </a:xfrm>
            <a:custGeom>
              <a:avLst/>
              <a:gdLst/>
              <a:ahLst/>
              <a:rect l="l" t="t" r="r" b="b"/>
              <a:pathLst>
                <a:path w="686" h="474">
                  <a:moveTo>
                    <a:pt x="0" y="449"/>
                  </a:moveTo>
                  <a:lnTo>
                    <a:pt x="9" y="466"/>
                  </a:lnTo>
                  <a:lnTo>
                    <a:pt x="35" y="474"/>
                  </a:lnTo>
                  <a:lnTo>
                    <a:pt x="653" y="474"/>
                  </a:lnTo>
                  <a:lnTo>
                    <a:pt x="678" y="468"/>
                  </a:lnTo>
                  <a:lnTo>
                    <a:pt x="686" y="446"/>
                  </a:lnTo>
                  <a:lnTo>
                    <a:pt x="686" y="30"/>
                  </a:lnTo>
                  <a:lnTo>
                    <a:pt x="680" y="10"/>
                  </a:lnTo>
                  <a:lnTo>
                    <a:pt x="657" y="0"/>
                  </a:lnTo>
                  <a:lnTo>
                    <a:pt x="40" y="0"/>
                  </a:lnTo>
                  <a:lnTo>
                    <a:pt x="15" y="7"/>
                  </a:lnTo>
                  <a:lnTo>
                    <a:pt x="2" y="30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63120" y="4722840"/>
              <a:ext cx="413640" cy="261720"/>
            </a:xfrm>
            <a:custGeom>
              <a:avLst/>
              <a:gdLst/>
              <a:ahLst/>
              <a:rect l="l" t="t" r="r" b="b"/>
              <a:pathLst>
                <a:path w="554" h="329">
                  <a:moveTo>
                    <a:pt x="0" y="311"/>
                  </a:moveTo>
                  <a:lnTo>
                    <a:pt x="7" y="325"/>
                  </a:lnTo>
                  <a:lnTo>
                    <a:pt x="27" y="329"/>
                  </a:lnTo>
                  <a:lnTo>
                    <a:pt x="526" y="329"/>
                  </a:lnTo>
                  <a:lnTo>
                    <a:pt x="545" y="325"/>
                  </a:lnTo>
                  <a:lnTo>
                    <a:pt x="554" y="310"/>
                  </a:lnTo>
                  <a:lnTo>
                    <a:pt x="554" y="23"/>
                  </a:lnTo>
                  <a:lnTo>
                    <a:pt x="549" y="7"/>
                  </a:lnTo>
                  <a:lnTo>
                    <a:pt x="529" y="0"/>
                  </a:lnTo>
                  <a:lnTo>
                    <a:pt x="30" y="0"/>
                  </a:lnTo>
                  <a:lnTo>
                    <a:pt x="10" y="4"/>
                  </a:lnTo>
                  <a:lnTo>
                    <a:pt x="0" y="17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91840" y="5127480"/>
              <a:ext cx="218880" cy="5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991840" y="5214960"/>
              <a:ext cx="2188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32480" y="5122800"/>
              <a:ext cx="113760" cy="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32480" y="5214960"/>
              <a:ext cx="11124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2400" y="5137200"/>
              <a:ext cx="174240" cy="61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64720" y="5162400"/>
              <a:ext cx="127800" cy="792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6560" y="5153040"/>
              <a:ext cx="20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226560" y="5180040"/>
              <a:ext cx="20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54800" y="5149800"/>
              <a:ext cx="69480" cy="3024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84920" y="5261040"/>
              <a:ext cx="750960" cy="129960"/>
            </a:xfrm>
            <a:custGeom>
              <a:avLst/>
              <a:gdLst/>
              <a:ahLst/>
              <a:rect l="l" t="t" r="r" b="b"/>
              <a:pathLst>
                <a:path w="1009" h="165">
                  <a:moveTo>
                    <a:pt x="102" y="0"/>
                  </a:moveTo>
                  <a:lnTo>
                    <a:pt x="106" y="0"/>
                  </a:lnTo>
                  <a:lnTo>
                    <a:pt x="926" y="0"/>
                  </a:lnTo>
                  <a:lnTo>
                    <a:pt x="1009" y="165"/>
                  </a:lnTo>
                  <a:lnTo>
                    <a:pt x="0" y="16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884920" y="5391000"/>
              <a:ext cx="753480" cy="19080"/>
            </a:xfrm>
            <a:custGeom>
              <a:avLst/>
              <a:gdLst/>
              <a:ahLst/>
              <a:rect l="l" t="t" r="r" b="b"/>
              <a:pathLst>
                <a:path w="1011" h="25">
                  <a:moveTo>
                    <a:pt x="0" y="0"/>
                  </a:moveTo>
                  <a:lnTo>
                    <a:pt x="1011" y="1"/>
                  </a:lnTo>
                  <a:lnTo>
                    <a:pt x="985" y="25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76000" y="5272200"/>
              <a:ext cx="478440" cy="11160"/>
            </a:xfrm>
            <a:custGeom>
              <a:avLst/>
              <a:gdLst/>
              <a:ahLst/>
              <a:rect l="l" t="t" r="r" b="b"/>
              <a:pathLst>
                <a:path w="644" h="16">
                  <a:moveTo>
                    <a:pt x="6" y="0"/>
                  </a:moveTo>
                  <a:lnTo>
                    <a:pt x="0" y="16"/>
                  </a:lnTo>
                  <a:lnTo>
                    <a:pt x="644" y="16"/>
                  </a:lnTo>
                  <a:lnTo>
                    <a:pt x="63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36040" y="5291280"/>
              <a:ext cx="440640" cy="61920"/>
            </a:xfrm>
            <a:custGeom>
              <a:avLst/>
              <a:gdLst/>
              <a:ahLst/>
              <a:rect l="l" t="t" r="r" b="b"/>
              <a:pathLst>
                <a:path w="590" h="79">
                  <a:moveTo>
                    <a:pt x="49" y="0"/>
                  </a:moveTo>
                  <a:lnTo>
                    <a:pt x="582" y="0"/>
                  </a:lnTo>
                  <a:lnTo>
                    <a:pt x="590" y="79"/>
                  </a:lnTo>
                  <a:lnTo>
                    <a:pt x="532" y="78"/>
                  </a:lnTo>
                  <a:lnTo>
                    <a:pt x="532" y="69"/>
                  </a:lnTo>
                  <a:lnTo>
                    <a:pt x="502" y="69"/>
                  </a:lnTo>
                  <a:lnTo>
                    <a:pt x="499" y="78"/>
                  </a:lnTo>
                  <a:lnTo>
                    <a:pt x="106" y="78"/>
                  </a:lnTo>
                  <a:lnTo>
                    <a:pt x="109" y="69"/>
                  </a:lnTo>
                  <a:lnTo>
                    <a:pt x="73" y="70"/>
                  </a:lnTo>
                  <a:lnTo>
                    <a:pt x="69" y="78"/>
                  </a:lnTo>
                  <a:lnTo>
                    <a:pt x="0" y="7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378840" y="5291280"/>
              <a:ext cx="88920" cy="2700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2" y="0"/>
                  </a:moveTo>
                  <a:lnTo>
                    <a:pt x="0" y="0"/>
                  </a:lnTo>
                  <a:lnTo>
                    <a:pt x="6" y="36"/>
                  </a:lnTo>
                  <a:lnTo>
                    <a:pt x="120" y="36"/>
                  </a:lnTo>
                  <a:lnTo>
                    <a:pt x="11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385320" y="5322960"/>
              <a:ext cx="94320" cy="3168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39" y="0"/>
                  </a:moveTo>
                  <a:lnTo>
                    <a:pt x="39" y="13"/>
                  </a:lnTo>
                  <a:lnTo>
                    <a:pt x="0" y="13"/>
                  </a:lnTo>
                  <a:lnTo>
                    <a:pt x="6" y="41"/>
                  </a:lnTo>
                  <a:lnTo>
                    <a:pt x="125" y="41"/>
                  </a:lnTo>
                  <a:lnTo>
                    <a:pt x="115" y="12"/>
                  </a:lnTo>
                  <a:lnTo>
                    <a:pt x="76" y="12"/>
                  </a:lnTo>
                  <a:lnTo>
                    <a:pt x="76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72440" y="5292720"/>
              <a:ext cx="131760" cy="61920"/>
            </a:xfrm>
            <a:custGeom>
              <a:avLst/>
              <a:gdLst/>
              <a:ahLst/>
              <a:rect l="l" t="t" r="r" b="b"/>
              <a:pathLst>
                <a:path w="178" h="79">
                  <a:moveTo>
                    <a:pt x="0" y="0"/>
                  </a:moveTo>
                  <a:lnTo>
                    <a:pt x="27" y="79"/>
                  </a:lnTo>
                  <a:lnTo>
                    <a:pt x="178" y="79"/>
                  </a:lnTo>
                  <a:lnTo>
                    <a:pt x="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141960" y="5046480"/>
              <a:ext cx="252360" cy="36720"/>
            </a:xfrm>
            <a:prstGeom prst="roundRect">
              <a:avLst>
                <a:gd name="adj" fmla="val 250000"/>
              </a:avLst>
            </a:prstGeom>
            <a:solidFill>
              <a:srgbClr val="6e6e6e"/>
            </a:solidFill>
            <a:ln w="0">
              <a:solidFill>
                <a:srgbClr val="6e6e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54800" y="5014800"/>
              <a:ext cx="33120" cy="19080"/>
            </a:xfrm>
            <a:prstGeom prst="rect">
              <a:avLst/>
            </a:prstGeom>
            <a:solidFill>
              <a:srgbClr val="464646"/>
            </a:solidFill>
            <a:ln w="0">
              <a:solidFill>
                <a:srgbClr val="4646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81480" y="5067360"/>
              <a:ext cx="372960" cy="28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081480" y="5092560"/>
              <a:ext cx="372960" cy="79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3904560" y="20653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29320" y="23702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763800" y="2344680"/>
            <a:ext cx="240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63800" y="2344680"/>
            <a:ext cx="240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792600" y="3254400"/>
            <a:ext cx="2406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27520" y="4199040"/>
            <a:ext cx="2406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778200" y="4973760"/>
            <a:ext cx="2406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04920" y="297972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829320" y="32846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057200" y="389412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905640" y="427500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980880" y="465624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905640" y="51134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666840" y="218268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67560" y="24764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39840" y="309888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640560" y="33908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654240" y="400068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54960" y="422928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668640" y="469908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222.5.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69360" y="4991040"/>
            <a:ext cx="171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.255.255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79600" y="2065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826920" y="3476520"/>
            <a:ext cx="922680" cy="61452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922320" cy="61452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3"/>
          <a:stretch/>
        </p:blipFill>
        <p:spPr>
          <a:xfrm>
            <a:off x="2987640" y="3933720"/>
            <a:ext cx="849240" cy="5652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4"/>
          <a:stretch/>
        </p:blipFill>
        <p:spPr>
          <a:xfrm>
            <a:off x="2987640" y="2997360"/>
            <a:ext cx="849240" cy="56484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5"/>
          <a:stretch/>
        </p:blipFill>
        <p:spPr>
          <a:xfrm>
            <a:off x="2987640" y="2060640"/>
            <a:ext cx="85104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类子网规划实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914400" y="1595520"/>
          <a:ext cx="7113600" cy="1984320"/>
        </p:xfrm>
        <a:graphic>
          <a:graphicData uri="http://schemas.openxmlformats.org/drawingml/2006/table">
            <a:tbl>
              <a:tblPr/>
              <a:tblGrid>
                <a:gridCol w="2073240"/>
                <a:gridCol w="5040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网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机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播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3" name=""/>
          <p:cNvGraphicFramePr/>
          <p:nvPr/>
        </p:nvGraphicFramePr>
        <p:xfrm>
          <a:off x="971640" y="4076640"/>
          <a:ext cx="7056360" cy="1584360"/>
        </p:xfrm>
        <a:graphic>
          <a:graphicData uri="http://schemas.openxmlformats.org/drawingml/2006/table">
            <a:tbl>
              <a:tblPr/>
              <a:tblGrid>
                <a:gridCol w="2016000"/>
                <a:gridCol w="5040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机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16.2.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网掩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.255.25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类子网规划实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914400" y="1523880"/>
          <a:ext cx="7113600" cy="1984320"/>
        </p:xfrm>
        <a:graphic>
          <a:graphicData uri="http://schemas.openxmlformats.org/drawingml/2006/table">
            <a:tbl>
              <a:tblPr/>
              <a:tblGrid>
                <a:gridCol w="2073240"/>
                <a:gridCol w="5040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网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.168.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机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.168.5.121-192.168.5.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播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.168.5.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6" name=""/>
          <p:cNvGraphicFramePr/>
          <p:nvPr/>
        </p:nvGraphicFramePr>
        <p:xfrm>
          <a:off x="971640" y="4005360"/>
          <a:ext cx="7056360" cy="1584360"/>
        </p:xfrm>
        <a:graphic>
          <a:graphicData uri="http://schemas.openxmlformats.org/drawingml/2006/table">
            <a:tbl>
              <a:tblPr/>
              <a:tblGrid>
                <a:gridCol w="2016000"/>
                <a:gridCol w="5040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机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.168.5.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网掩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.255.255.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变长子网掩码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VLSM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106720" cy="115740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2"/>
          <a:stretch/>
        </p:blipFill>
        <p:spPr>
          <a:xfrm>
            <a:off x="6516720" y="1268280"/>
            <a:ext cx="1938240" cy="110808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1938600" cy="11574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4"/>
          <a:stretch/>
        </p:blipFill>
        <p:spPr>
          <a:xfrm>
            <a:off x="6588000" y="3789360"/>
            <a:ext cx="202248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2" name=""/>
          <p:cNvGraphicFramePr/>
          <p:nvPr/>
        </p:nvGraphicFramePr>
        <p:xfrm>
          <a:off x="539640" y="3024360"/>
          <a:ext cx="1933560" cy="11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024360"/>
                    <a:ext cx="19335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"/>
          <p:cNvSpPr/>
          <p:nvPr/>
        </p:nvSpPr>
        <p:spPr>
          <a:xfrm>
            <a:off x="6660720" y="16279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2.168.1.32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733800" y="28519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2.168.1.64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732720" y="414900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2.168.1.96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733080" y="52999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2.168.1.128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08760" y="43257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4206960" y="2104920"/>
            <a:ext cx="100152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4140000" y="3176640"/>
            <a:ext cx="106812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206960" y="3713040"/>
            <a:ext cx="100152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40360" y="3865680"/>
            <a:ext cx="1001520" cy="153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340000" y="3635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48000" y="213336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2.168.1.160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572000" y="3357360"/>
            <a:ext cx="16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2.168.1.164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72000" y="3715920"/>
            <a:ext cx="16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2.168.1.168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348000" y="50842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2.168.1.17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033200" y="34074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70440" y="331740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通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92.168.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7"/>
          <a:stretch/>
        </p:blipFill>
        <p:spPr>
          <a:xfrm>
            <a:off x="3276720" y="3357720"/>
            <a:ext cx="931680" cy="53316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8"/>
          <a:stretch/>
        </p:blipFill>
        <p:spPr>
          <a:xfrm>
            <a:off x="5148360" y="5229360"/>
            <a:ext cx="931680" cy="53316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9"/>
          <a:stretch/>
        </p:blipFill>
        <p:spPr>
          <a:xfrm>
            <a:off x="5148360" y="4005360"/>
            <a:ext cx="931680" cy="53316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10"/>
          <a:stretch/>
        </p:blipFill>
        <p:spPr>
          <a:xfrm>
            <a:off x="5148360" y="2708280"/>
            <a:ext cx="931680" cy="53352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11"/>
          <a:stretch/>
        </p:blipFill>
        <p:spPr>
          <a:xfrm>
            <a:off x="5148360" y="1700280"/>
            <a:ext cx="931680" cy="53316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6012000" y="1916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01200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01200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无类域间路由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ID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136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ID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减少了路由表的规模，增了网络的可扩展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611280" y="3716280"/>
          <a:ext cx="159840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6280"/>
                    <a:ext cx="15984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2" name=""/>
          <p:cNvGrpSpPr/>
          <p:nvPr/>
        </p:nvGrpSpPr>
        <p:grpSpPr>
          <a:xfrm>
            <a:off x="899280" y="2637000"/>
            <a:ext cx="7519320" cy="3155760"/>
            <a:chOff x="899280" y="2637000"/>
            <a:chExt cx="7519320" cy="3155760"/>
          </a:xfrm>
        </p:grpSpPr>
        <p:pic>
          <p:nvPicPr>
            <p:cNvPr id="1123" name="" descr=""/>
            <p:cNvPicPr/>
            <p:nvPr/>
          </p:nvPicPr>
          <p:blipFill>
            <a:blip r:embed="rId3"/>
            <a:stretch/>
          </p:blipFill>
          <p:spPr>
            <a:xfrm>
              <a:off x="7045200" y="5036760"/>
              <a:ext cx="1373400" cy="7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4"/>
            <a:stretch/>
          </p:blipFill>
          <p:spPr>
            <a:xfrm>
              <a:off x="7045200" y="3773520"/>
              <a:ext cx="1373400" cy="7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5"/>
            <a:stretch/>
          </p:blipFill>
          <p:spPr>
            <a:xfrm>
              <a:off x="6977160" y="2637000"/>
              <a:ext cx="1441080" cy="7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"/>
            <p:cNvSpPr/>
            <p:nvPr/>
          </p:nvSpPr>
          <p:spPr>
            <a:xfrm>
              <a:off x="6312960" y="301644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12960" y="4151520"/>
              <a:ext cx="8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12960" y="5414760"/>
              <a:ext cx="79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9" name="" descr=""/>
            <p:cNvPicPr/>
            <p:nvPr/>
          </p:nvPicPr>
          <p:blipFill>
            <a:blip r:embed="rId6"/>
            <a:stretch/>
          </p:blipFill>
          <p:spPr>
            <a:xfrm>
              <a:off x="3125520" y="3710520"/>
              <a:ext cx="1660680" cy="9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2127600" y="421488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99280" y="398736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12880" y="279504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198.168.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030440" y="393120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198.168.2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030440" y="519444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198.168.3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18000" y="46184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97880" y="3894480"/>
              <a:ext cx="156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通告路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198.168.0.0/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7" name="" descr=""/>
            <p:cNvPicPr/>
            <p:nvPr/>
          </p:nvPicPr>
          <p:blipFill>
            <a:blip r:embed="rId7"/>
            <a:stretch/>
          </p:blipFill>
          <p:spPr>
            <a:xfrm>
              <a:off x="5555880" y="5181480"/>
              <a:ext cx="8816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8"/>
            <a:stretch/>
          </p:blipFill>
          <p:spPr>
            <a:xfrm>
              <a:off x="5487840" y="3939480"/>
              <a:ext cx="882000" cy="45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9"/>
            <a:stretch/>
          </p:blipFill>
          <p:spPr>
            <a:xfrm>
              <a:off x="5487840" y="2820240"/>
              <a:ext cx="88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"/>
            <p:cNvSpPr/>
            <p:nvPr/>
          </p:nvSpPr>
          <p:spPr>
            <a:xfrm flipV="1">
              <a:off x="4397040" y="3069360"/>
              <a:ext cx="115848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38320" y="418752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97040" y="4684680"/>
              <a:ext cx="1227240" cy="7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总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547640" y="2204640"/>
            <a:ext cx="65534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栈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模型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栈各层主要协议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网规划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网规划实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590920" y="1676520"/>
            <a:ext cx="5715000" cy="3276360"/>
            <a:chOff x="2590920" y="1676520"/>
            <a:chExt cx="5715000" cy="3276360"/>
          </a:xfrm>
        </p:grpSpPr>
        <p:sp>
          <p:nvSpPr>
            <p:cNvPr id="1146" name=""/>
            <p:cNvSpPr/>
            <p:nvPr/>
          </p:nvSpPr>
          <p:spPr>
            <a:xfrm>
              <a:off x="2590920" y="167652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77320" y="1676520"/>
              <a:ext cx="75960" cy="32763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838080" y="3200400"/>
            <a:ext cx="5562720" cy="2971800"/>
            <a:chOff x="838080" y="3200400"/>
            <a:chExt cx="5562720" cy="2971800"/>
          </a:xfrm>
        </p:grpSpPr>
        <p:sp>
          <p:nvSpPr>
            <p:cNvPr id="1149" name=""/>
            <p:cNvSpPr/>
            <p:nvPr/>
          </p:nvSpPr>
          <p:spPr>
            <a:xfrm>
              <a:off x="838080" y="5943600"/>
              <a:ext cx="5562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38080" y="3200400"/>
              <a:ext cx="76320" cy="2971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492360" y="1773360"/>
            <a:ext cx="4267080" cy="1498320"/>
            <a:chOff x="3492360" y="1773360"/>
            <a:chExt cx="4267080" cy="1498320"/>
          </a:xfrm>
        </p:grpSpPr>
        <p:sp>
          <p:nvSpPr>
            <p:cNvPr id="219" name=""/>
            <p:cNvSpPr/>
            <p:nvPr/>
          </p:nvSpPr>
          <p:spPr>
            <a:xfrm>
              <a:off x="3543120" y="2420640"/>
              <a:ext cx="42163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55720" y="3271680"/>
              <a:ext cx="42037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0840" y="1773360"/>
              <a:ext cx="1989360" cy="14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第一章  </a:t>
              </a: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TCP/IP</a:t>
              </a:r>
              <a:r>
                <a:rPr b="1" lang="zh-CN" sz="2200" spc="-1" strike="noStrike">
                  <a:solidFill>
                    <a:srgbClr val="ff9933"/>
                  </a:solidFill>
                  <a:latin typeface="Times New Roman"/>
                </a:rPr>
                <a:t>协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99"/>
                  </a:solidFill>
                  <a:latin typeface="Times New Roman"/>
                </a:rPr>
                <a:t>第二章  子网规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3492360" y="2001600"/>
              <a:ext cx="311040" cy="3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3492360" y="2839680"/>
              <a:ext cx="2970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参考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71280" y="1267920"/>
            <a:ext cx="739116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协议栈具有简单的分层设计，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模型有清晰的对应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837080" y="2350440"/>
            <a:ext cx="5348160" cy="3800880"/>
            <a:chOff x="1837080" y="2350440"/>
            <a:chExt cx="5348160" cy="3800880"/>
          </a:xfrm>
        </p:grpSpPr>
        <p:grpSp>
          <p:nvGrpSpPr>
            <p:cNvPr id="228" name=""/>
            <p:cNvGrpSpPr/>
            <p:nvPr/>
          </p:nvGrpSpPr>
          <p:grpSpPr>
            <a:xfrm>
              <a:off x="2308320" y="2492280"/>
              <a:ext cx="1676520" cy="3657600"/>
              <a:chOff x="2308320" y="2492280"/>
              <a:chExt cx="1676520" cy="3657600"/>
            </a:xfrm>
          </p:grpSpPr>
          <p:sp>
            <p:nvSpPr>
              <p:cNvPr id="229" name=""/>
              <p:cNvSpPr/>
              <p:nvPr/>
            </p:nvSpPr>
            <p:spPr>
              <a:xfrm>
                <a:off x="2308320" y="2492280"/>
                <a:ext cx="1676520" cy="365760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08320" y="297972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08320" y="346752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08320" y="401616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08320" y="456480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08320" y="511344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08320" y="566208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5508720" y="2492280"/>
              <a:ext cx="1676520" cy="36576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08720" y="4016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4549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08720" y="51134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81720" y="2567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应用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21600" y="3056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表示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21600" y="3543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会话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21600" y="4091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传输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21600" y="4642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网络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14680" y="51901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数据链路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21600" y="5677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物理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67360" y="2350440"/>
              <a:ext cx="546120" cy="17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应 用 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22000" y="4032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传输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22000" y="4642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网络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52920" y="249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7080" y="3024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52920" y="355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37080" y="4091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52920" y="462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52920" y="5158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52920" y="569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60800" y="432108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60800" y="485460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0800" y="5692680"/>
              <a:ext cx="12956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22000" y="5691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物理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08720" y="569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15080" y="5158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数据链路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340000" y="20955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OSI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参考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9080" y="20955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466720" y="1628640"/>
            <a:ext cx="2671200" cy="4191120"/>
            <a:chOff x="2466720" y="1628640"/>
            <a:chExt cx="2671200" cy="4191120"/>
          </a:xfrm>
        </p:grpSpPr>
        <p:sp>
          <p:nvSpPr>
            <p:cNvPr id="267" name=""/>
            <p:cNvSpPr/>
            <p:nvPr/>
          </p:nvSpPr>
          <p:spPr>
            <a:xfrm>
              <a:off x="2494080" y="1628640"/>
              <a:ext cx="2533680" cy="4191120"/>
            </a:xfrm>
            <a:prstGeom prst="rect">
              <a:avLst/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94080" y="2409840"/>
              <a:ext cx="25336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94080" y="3191040"/>
              <a:ext cx="25336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94080" y="4043520"/>
              <a:ext cx="25336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35200" y="1827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49600" y="2608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83000" y="33591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68600" y="42116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68600" y="5165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66720" y="1657800"/>
              <a:ext cx="255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HTTP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Telnet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FTP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TFTP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Ping</a:t>
              </a:r>
              <a:r>
                <a:rPr b="0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et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25720" y="2541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41640" y="3573360"/>
              <a:ext cx="1067040" cy="0"/>
            </a:xfrm>
            <a:prstGeom prst="line">
              <a:avLst/>
            </a:prstGeom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24360" y="3573360"/>
              <a:ext cx="17280" cy="493920"/>
            </a:xfrm>
            <a:prstGeom prst="line">
              <a:avLst/>
            </a:prstGeom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3800" y="362340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P/RA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73280" y="33804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72760" y="330480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3040" y="4142880"/>
              <a:ext cx="244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DL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65480" y="5132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接口和线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03440" y="4981680"/>
              <a:ext cx="25336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270080" y="1825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256536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554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429264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191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02360" y="1754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应用程序网络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76720" y="451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6720" y="537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08760" y="2565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建立端到端连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89680" y="3409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寻址和路由选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30720" y="4273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物理介质访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51320" y="517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二进制数据流传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0720" y="505944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协议数据封装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908000" y="1268280"/>
          <a:ext cx="5529240" cy="4841640"/>
        </p:xfrm>
        <a:graphic>
          <a:graphicData uri="http://schemas.openxmlformats.org/drawingml/2006/table">
            <a:tbl>
              <a:tblPr/>
              <a:tblGrid>
                <a:gridCol w="1382760"/>
                <a:gridCol w="1411200"/>
                <a:gridCol w="1352520"/>
                <a:gridCol w="138276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/U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PA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应用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195640" y="1483920"/>
            <a:ext cx="547200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传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邮件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N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rac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传输层协议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403280" y="1954440"/>
            <a:ext cx="6691320" cy="3043080"/>
            <a:chOff x="1403280" y="1954440"/>
            <a:chExt cx="6691320" cy="3043080"/>
          </a:xfrm>
        </p:grpSpPr>
        <p:sp>
          <p:nvSpPr>
            <p:cNvPr id="307" name=""/>
            <p:cNvSpPr/>
            <p:nvPr/>
          </p:nvSpPr>
          <p:spPr>
            <a:xfrm>
              <a:off x="1403280" y="1954440"/>
              <a:ext cx="2463480" cy="588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03280" y="2730600"/>
              <a:ext cx="2463480" cy="58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03280" y="3508560"/>
              <a:ext cx="2463480" cy="588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03280" y="4221360"/>
              <a:ext cx="2463480" cy="776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80920" y="210528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应用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99840" y="2786040"/>
              <a:ext cx="1289160" cy="403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73000" y="2849760"/>
              <a:ext cx="526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Arial"/>
                </a:rPr>
                <a:t>传输层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9800" y="3535560"/>
              <a:ext cx="1014120" cy="42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20520" y="360072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网络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06240" y="4349880"/>
              <a:ext cx="1844640" cy="463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45720" y="4437000"/>
              <a:ext cx="838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网络接入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82840" y="1974960"/>
              <a:ext cx="3011760" cy="2138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90840" y="2041560"/>
              <a:ext cx="2735280" cy="1111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88680" y="2105280"/>
              <a:ext cx="586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3440" y="2932200"/>
              <a:ext cx="1984680" cy="11113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00920" y="2995560"/>
              <a:ext cx="619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70000" y="2853000"/>
              <a:ext cx="1224000" cy="433080"/>
            </a:xfrm>
            <a:prstGeom prst="rightArrow">
              <a:avLst>
                <a:gd name="adj1" fmla="val 50000"/>
                <a:gd name="adj2" fmla="val 70657"/>
              </a:avLst>
            </a:prstGeom>
            <a:solidFill>
              <a:srgbClr val="00cc99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CP/UDP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报文格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15840" y="1143000"/>
            <a:ext cx="7464600" cy="4908960"/>
            <a:chOff x="915840" y="1143000"/>
            <a:chExt cx="7464600" cy="4908960"/>
          </a:xfrm>
        </p:grpSpPr>
        <p:grpSp>
          <p:nvGrpSpPr>
            <p:cNvPr id="326" name=""/>
            <p:cNvGrpSpPr/>
            <p:nvPr/>
          </p:nvGrpSpPr>
          <p:grpSpPr>
            <a:xfrm>
              <a:off x="931680" y="3048120"/>
              <a:ext cx="7448760" cy="2438640"/>
              <a:chOff x="931680" y="3048120"/>
              <a:chExt cx="7448760" cy="2438640"/>
            </a:xfrm>
          </p:grpSpPr>
          <p:sp>
            <p:nvSpPr>
              <p:cNvPr id="327" name=""/>
              <p:cNvSpPr/>
              <p:nvPr/>
            </p:nvSpPr>
            <p:spPr>
              <a:xfrm>
                <a:off x="931680" y="30481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60480" y="30625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72000" y="3048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395400" y="30481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95600" y="304812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09480" y="3352680"/>
                <a:ext cx="92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源端口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02840" y="3352680"/>
                <a:ext cx="1042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目的端口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61960" y="3689280"/>
                <a:ext cx="92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序列号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61960" y="3993840"/>
                <a:ext cx="92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确认号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46480" y="4211280"/>
                <a:ext cx="3326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R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430800" y="4211280"/>
                <a:ext cx="3326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59400" y="4266360"/>
                <a:ext cx="3326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S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88000" y="4266360"/>
                <a:ext cx="33264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R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16600" y="4225320"/>
                <a:ext cx="332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45200" y="4266720"/>
                <a:ext cx="3326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90720" y="335304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90720" y="3657600"/>
                <a:ext cx="73152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90720" y="3962520"/>
                <a:ext cx="73152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90720" y="4267440"/>
                <a:ext cx="22860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051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90720" y="45720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90720" y="4876920"/>
                <a:ext cx="73152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648320" y="335304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48320" y="426744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339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48400" y="42350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首部长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43800" y="4267080"/>
                <a:ext cx="92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保留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(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767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1911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053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625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19720" y="426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19040" y="4267080"/>
                <a:ext cx="1042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窗口大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48320" y="45720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00240" y="4571640"/>
                <a:ext cx="1390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TCP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校验和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19040" y="4571640"/>
                <a:ext cx="1042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位紧急指针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90720" y="5181840"/>
                <a:ext cx="73152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45280" y="48765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选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45280" y="514944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数据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915840" y="1143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44640" y="1157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56160" y="1143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79560" y="1143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79760" y="1143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93640" y="143460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位源端口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87000" y="1434600"/>
              <a:ext cx="104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位目的端口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27520" y="1752120"/>
              <a:ext cx="14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位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校验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8520" y="20127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数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93600" y="1739880"/>
              <a:ext cx="3654720" cy="31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93600" y="143496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51200" y="143496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22640" y="243792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报文格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27320" y="5714640"/>
              <a:ext cx="112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报文格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90720" y="2057400"/>
              <a:ext cx="7311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1739880"/>
              <a:ext cx="3654360" cy="31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83400" y="1752120"/>
              <a:ext cx="130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位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长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1:56:11Z</dcterms:created>
  <dc:creator>wangwanying</dc:creator>
  <dc:description/>
  <dc:language>en-US</dc:language>
  <cp:lastModifiedBy>软件仓库</cp:lastModifiedBy>
  <cp:lastPrinted>2002-07-08T02:44:19Z</cp:lastPrinted>
  <dcterms:modified xsi:type="dcterms:W3CDTF">2005-05-17T02:37:57Z</dcterms:modified>
  <cp:revision>16</cp:revision>
  <dc:subject/>
  <dc:title>课程编码 课程名称</dc:title>
</cp:coreProperties>
</file>